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3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3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315-4754-40F2-A305-9F62C994BA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C700-53B3-4A83-A3B3-B5442376C0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1BE-342F-45EA-B8D7-36BD58C0D5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9935-7CB7-49E0-A0CB-BE609E9653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35EC-3749-4C6F-B24F-BF9D460C6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02B9-9F1D-4799-9783-5413BA43D1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D2A-EBF6-450B-AD63-44CB9552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2B4-D890-419C-A4F2-42603B42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3B957-F6D4-4395-BD20-A32A7D2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A2107-5320-433C-B90A-9A4D217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857C5-F640-4029-9776-9FBDD507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77CD9-B19E-4854-A09B-7B460064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5805-612C-4B43-8FEE-3B20419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F89AE-8EEF-4798-8363-A51EEFB3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E56D8-89D0-4545-836D-34E1AE77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604FD-94BB-4F57-A31C-2593C932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EA875-1597-441A-B888-BCAB6A42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B63DF-E719-476B-8C5A-6B78F722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D8E-B450-4E8B-8E0D-593D07B3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BA930-F185-4E6F-9A9D-8908A032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7D9B6-5866-4D61-8E45-2AAEE34B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2D43B-7572-4F37-AC82-7096A7C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4060F-B396-4B4D-B0A5-58484DD2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21EEB-0B26-475E-97D0-2775318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0FA58-9ED2-442C-90F3-683BD43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D9D38-9BEE-46F0-A430-07BE9541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132AC-D485-4FB5-8292-93BBB88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57A28-78AE-4B8D-9220-DE5D9F17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F1A60-8DC2-41AC-8BAD-8FC4EF2C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477-DA77-480F-BF98-7322C64A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38F80-7E5C-40F0-A020-5907D765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709A8-3A81-4189-962F-121D877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56070-0E45-4212-ABBF-3961572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2BF7-4769-4B84-A61A-4D02F88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002EB-D923-477D-B50D-0DF8F7C9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7211-6B9D-4DA0-86F9-FA986882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D1CF7-00AE-404A-BD2E-9BF46B74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36A87-ABC0-4CAF-8774-D5500C5A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6602-9EF7-41C0-A196-859F57D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5A93C-7473-4548-8E65-904F65C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DAC5-964F-44B4-899C-2713A356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450DF-EEF6-499B-960C-8530FF45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570D7-9B77-4854-9EBD-D3B03507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3A75A-796F-4C27-B21F-42876135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34346-A1E7-44CA-9681-ECB4D812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2DC74-471A-43D8-9E72-F151F4B4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F4A4F-141A-4BD7-A755-429BC6DE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7AFE-E2C8-4E95-A4AC-A9817A93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89777-7DF3-4C1A-B0C9-21D84EB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8C1F-91E2-4DE6-8B3F-55AA74AD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260D7-BEEE-4576-BE17-845F2CA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75C-D27B-4843-B4F5-0312F350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E6B9E-0798-4E5C-8838-A28A874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601FF-412D-4B08-9228-5D35034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8726B-2751-47C3-BA7F-077BB01D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E1DEF-66E8-4FC6-AECA-F190C178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07FF5-4EED-497F-8E99-B199AAE8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B558-75E3-4DC6-966B-DCB6175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12A5-1386-45B4-A3A3-22C576F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052C-3714-4674-894C-99BD0CC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EAE1-CD89-41C4-BBBB-4B56EFF1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1690-EE21-4CC6-90EA-26D584C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DF9-4374-42D1-B695-285E5AE1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E81D-ACB6-4FAF-8DA5-CE1993F3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D9CA-6E17-4CD9-BFE3-4215BE5E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E34D-05D1-4C30-AAE5-4108CB63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0307-C41A-4DD7-BA6B-56F6A325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7156-0D16-4A55-944A-2039ED08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CA8A-C760-4A96-A330-956DFD36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B933-926A-451C-851D-9AE22EF3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E3C9-F51C-4846-A35C-46E14715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220C-4906-41DE-9196-B10CBD4B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3195-130E-4E52-908F-181CAFD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23D-0F08-4AFF-ADB4-C905E027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87A0-659E-4085-81AF-210D1C61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E18E-3B85-443A-A31E-4617D563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B23E-14CA-479C-BFA8-8F43D89F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BD68-14DB-45E3-9467-9EF22457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7154-DE79-44D2-B5AB-CEBEBBE9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5284-CFF6-4006-A29B-E57BE07B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54066-6823-4FCC-9254-06DB667C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294E-610B-46F7-B73E-EF085EE7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0676-8533-4298-9D75-67D8A0AF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7248-0592-40F0-9B48-099618E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F23-6E98-4E5A-A69C-707FABF2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C179-EA73-417C-A982-31BE276C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5FCB-3293-4B62-B53E-83E3BC1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66CF-084B-489D-A635-2F24928F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70D7-BF6D-4718-BBAB-EE2C3DF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B3BA-63E3-4BF4-AB1C-70F54B9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544A-D8AF-414D-A403-3FAF90E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4AE5-24CF-406B-B7C0-4AA413D2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969D-51E5-4BAE-B8F4-64FA4A3C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03FE-8A5A-43C8-BE5D-8CFF5732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64D3-C93C-4BAC-8FB2-3AB8C153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805-6D5F-4576-AEB5-4F47129F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7479-39CF-44BD-A6FF-2F45275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6454C-267F-42B6-A087-9E718BE3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9E3D7-8B3D-4D86-A4C3-8B43D9A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F3C4F-FF26-4D38-AED6-1F45976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0CED4-93D9-4C94-AACC-4385636A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9AAE-119E-4819-BC3B-B371630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65CF2-A194-48A6-892A-44DFE646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75C4E-C7EC-4CB2-BB4D-435DE77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C66B1-1B73-450D-9FCF-A9AC7854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C909-F82A-4800-AA8C-8B0AC56D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4FD-F685-4128-B9E9-6108F894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5D58-5D8F-4FB5-9023-BE9B9555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017B6-3587-4B5C-8591-E5D5D979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F2620-0161-4875-AE54-9D94C2D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F0A99-ABA6-45C3-904F-BFAAAB5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00426-ED3F-4325-837E-A4A84553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2EC74-93B3-4023-A2D5-CA932AC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4A094-43A1-451F-965B-A0A06BA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114DC-E18E-4F65-9546-B12B9A0A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68D86-83C7-48E9-92F1-ED24040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FFEBF-83F9-405D-88DD-9CA2B3C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C68-23C1-4FC5-B2CB-5A8896E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04187-4348-4C0C-967D-DAAD1399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0E2EA-8814-4275-9E6D-89BCAE45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5CC42-F295-44DC-A82C-C06E962C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F630-0ECD-4E3C-B8B6-BC07DC41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5769-3863-4992-AF8D-BCF5149E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1DF2-7581-4293-880F-B018D0B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52C9C-7A06-42F5-A7A9-A9D76FB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1EE14-F078-4E16-87A3-A3DB28A4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3E8D-E8F2-4BDF-BE74-9FDA7A79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038D3-7FF7-46CB-85A9-514071B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36A-ECBE-4FB2-AF3D-E82D2B4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47D42-4730-49A9-A963-B6732BB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349E-AD45-4CA1-A37F-2F727AD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51C5-8755-41C5-82D4-E4B569A6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7026B-2788-4148-9A38-C11B8832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BFE4C-7AD3-4741-A050-923C2B9F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FBB24-F622-4BBF-B841-C113E245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579D4-40C3-442C-81A5-C719752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294F-CCCC-4997-BAEB-7A7D0135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D4E7C-5713-4AF9-8CED-DE3288EC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6ED05-F181-437B-853F-84562054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782-A9D0-4620-9BEE-0D605EA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EBF88-F6FC-41E5-BA56-EF0A31A8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16DB2-BF5E-48E0-91A5-1251E50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A0BC-E426-49D2-9EFF-BC5D549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D4DD4-B7D8-4691-B808-3127FAF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544B0-B25F-4700-80CA-D1BF5F2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F0504-080D-45F4-AF50-5D803F31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CF330-EE3D-4A2B-BD60-CCB4FB03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0B162-A351-477F-9CA8-1F280207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A8CC5-8208-4CD8-8221-AACE3826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DF43B-A56B-47FB-9068-0BCD6358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99F0-0699-4595-882F-A3FA2E383A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23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7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F026-8D77-4C8A-A192-275F7908E9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CD60-7B92-491E-8124-848370BECE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F6E1-1F10-403D-90B7-36288819E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4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1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4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Скругленный прямоугольник 4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Скругленный прямоугольник 4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Прямоугольник 47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48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49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50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FC4F-5FA8-40AB-920C-76F0E7BE0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0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A86F-C03F-4F32-916D-EF9DDEF9CD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F592-2492-4312-BECF-0D27FE9650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19A1-5FFF-49B6-A47B-A47671E972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3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1EEB-6254-4BF3-B80A-B0642A96D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4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4A50-BB28-4190-B42F-A11CCA442A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5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18E0-F942-4A3F-9815-09132EBDCE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6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6FCE-FED5-47BE-B262-2D17D5BC12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image" Target="../media/image1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16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6.png"/><Relationship Id="rId2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6"/>
          <p:cNvSpPr/>
          <p:nvPr/>
        </p:nvSpPr>
        <p:spPr>
          <a:xfrm>
            <a:off x="0" y="0"/>
            <a:ext cx="9144000" cy="4705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1498680"/>
            <a:ext cx="91440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и механизмы устранения технических барьеров в торговл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0" y="4827240"/>
            <a:ext cx="845352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Arial"/>
              </a:rPr>
              <a:t>Осмола И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ректор Научно-производственного республиканского унитарного предприятия «Белорусский государственный институт стандартизации и сертификации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233280" y="596880"/>
            <a:ext cx="8759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5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эквивалентности технических регламен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7" name="Прямоугольник 4"/>
          <p:cNvSpPr/>
          <p:nvPr/>
        </p:nvSpPr>
        <p:spPr>
          <a:xfrm>
            <a:off x="92160" y="1854360"/>
            <a:ext cx="875988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национальных технических регламентов (ТР) страны экспортера продукции, ТР интеграционных формирований, созданных государствами-участниками СНГ, эквивалентными национальным ТР страны назначения продук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по признанию технических регламентов эквивалентными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государств-участников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622B-037B-4706-A0F8-73E1C1ADF0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233280" y="3017880"/>
            <a:ext cx="8618760" cy="1281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ТР страны назначения продукци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е должны противоречить требованиям национального законодатель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еспечивать выполнение целей, предусмотренных действующим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ми техническими регламентам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Номер слайда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870-0993-4EF2-A76C-CFA39522A27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Прямоугольник 4"/>
          <p:cNvSpPr/>
          <p:nvPr/>
        </p:nvSpPr>
        <p:spPr>
          <a:xfrm>
            <a:off x="130320" y="977760"/>
            <a:ext cx="901368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оглашение об устранении технических барьеров во взаимной торговле государств – участников СНГ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олжно основываться н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оговоре о зоне свободной торговли от 11 октября 2011 год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и о проведении согласованной политики в области стандартизации, метрологии и сертификации от 13 марта 1992 го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авилах и принципах Соглашения по техническим барьерам в торговле Всемирной торговой организации от 15 апреля 1994 го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2" name="Прямоугольник 4"/>
          <p:cNvSpPr/>
          <p:nvPr/>
        </p:nvSpPr>
        <p:spPr>
          <a:xfrm>
            <a:off x="88920" y="4024440"/>
            <a:ext cx="9013680" cy="2075040"/>
          </a:xfrm>
          <a:prstGeom prst="rect">
            <a:avLst/>
          </a:prstGeom>
          <a:solidFill>
            <a:srgbClr val="db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 принятием Соглаш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будут отменены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принципах проведения и взаимном признании работ по сертификации (г. Краснодар, 4 июня 1992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взаимном признании результатов работ по аккредитации в области оценки соответствия (г. Ереван, 22 мая 2003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Oval 7"/>
          <p:cNvSpPr/>
          <p:nvPr/>
        </p:nvSpPr>
        <p:spPr>
          <a:xfrm>
            <a:off x="2900520" y="3328920"/>
            <a:ext cx="3246120" cy="1422360"/>
          </a:xfrm>
          <a:prstGeom prst="ellipse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Условия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озданн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 рамках МГ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2805120" y="2023920"/>
            <a:ext cx="35496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согласованные принципы надзора за безопасностью взаимопоставляемой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5446800" y="5295960"/>
            <a:ext cx="335736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или гармонизированных процедур оценки (подтверждения)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Rectangle 25"/>
          <p:cNvSpPr/>
          <p:nvPr/>
        </p:nvSpPr>
        <p:spPr>
          <a:xfrm>
            <a:off x="117360" y="3435480"/>
            <a:ext cx="255276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межгосударственных стандартов (ГОСТ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330960" y="3454560"/>
            <a:ext cx="26622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согласованные принципы обеспечения единства измерений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AutoShape 21"/>
          <p:cNvSpPr/>
          <p:nvPr/>
        </p:nvSpPr>
        <p:spPr>
          <a:xfrm rot="6275400">
            <a:off x="2805120" y="3313440"/>
            <a:ext cx="212760" cy="443160"/>
          </a:xfrm>
          <a:prstGeom prst="downArrow">
            <a:avLst>
              <a:gd name="adj1" fmla="val 56361"/>
              <a:gd name="adj2" fmla="val 72169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6D0C-584B-4F07-909A-7F641D7DA3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Text Box 40"/>
          <p:cNvSpPr/>
          <p:nvPr/>
        </p:nvSpPr>
        <p:spPr>
          <a:xfrm>
            <a:off x="-388800" y="67464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УСТРАН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166680" y="5353200"/>
            <a:ext cx="38052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знание результатов работ по аккредитации органов по оценке (подтверждению)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AutoShape 21"/>
          <p:cNvSpPr/>
          <p:nvPr/>
        </p:nvSpPr>
        <p:spPr>
          <a:xfrm rot="15148200">
            <a:off x="5987880" y="3330000"/>
            <a:ext cx="212760" cy="403200"/>
          </a:xfrm>
          <a:prstGeom prst="downArrow">
            <a:avLst>
              <a:gd name="adj1" fmla="val 56361"/>
              <a:gd name="adj2" fmla="val 72347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AutoShape 21"/>
          <p:cNvSpPr/>
          <p:nvPr/>
        </p:nvSpPr>
        <p:spPr>
          <a:xfrm rot="18025800">
            <a:off x="5763240" y="4528080"/>
            <a:ext cx="212760" cy="398160"/>
          </a:xfrm>
          <a:prstGeom prst="downArrow">
            <a:avLst>
              <a:gd name="adj1" fmla="val 56361"/>
              <a:gd name="adj2" fmla="val 721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AutoShape 21"/>
          <p:cNvSpPr/>
          <p:nvPr/>
        </p:nvSpPr>
        <p:spPr>
          <a:xfrm rot="10800000">
            <a:off x="4366800" y="2905200"/>
            <a:ext cx="212760" cy="37440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AutoShape 21"/>
          <p:cNvSpPr/>
          <p:nvPr/>
        </p:nvSpPr>
        <p:spPr>
          <a:xfrm rot="2996400">
            <a:off x="3269160" y="4642560"/>
            <a:ext cx="212760" cy="401760"/>
          </a:xfrm>
          <a:prstGeom prst="downArrow">
            <a:avLst>
              <a:gd name="adj1" fmla="val 56361"/>
              <a:gd name="adj2" fmla="val 7208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Прямоугольник с двумя скругленными соседними углами 1"/>
          <p:cNvSpPr/>
          <p:nvPr/>
        </p:nvSpPr>
        <p:spPr>
          <a:xfrm>
            <a:off x="2805120" y="1698480"/>
            <a:ext cx="3549600" cy="32544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ДЗО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Прямоугольник с двумя скругленными соседними углами 16"/>
          <p:cNvSpPr/>
          <p:nvPr/>
        </p:nvSpPr>
        <p:spPr>
          <a:xfrm>
            <a:off x="117360" y="3105000"/>
            <a:ext cx="255276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Прямоугольник с двумя скругленными соседними углами 17"/>
          <p:cNvSpPr/>
          <p:nvPr/>
        </p:nvSpPr>
        <p:spPr>
          <a:xfrm>
            <a:off x="6330960" y="3130560"/>
            <a:ext cx="266220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РОЛОГ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Прямоугольник с двумя скругленными соседними углами 20"/>
          <p:cNvSpPr/>
          <p:nvPr/>
        </p:nvSpPr>
        <p:spPr>
          <a:xfrm>
            <a:off x="5446800" y="4971960"/>
            <a:ext cx="335736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ЦЕНКА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Прямоугольник с двумя скругленными соседними углами 21"/>
          <p:cNvSpPr/>
          <p:nvPr/>
        </p:nvSpPr>
        <p:spPr>
          <a:xfrm>
            <a:off x="166680" y="5029200"/>
            <a:ext cx="380520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ККРЕДИТАЦ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4"/>
          <p:cNvSpPr/>
          <p:nvPr/>
        </p:nvSpPr>
        <p:spPr>
          <a:xfrm>
            <a:off x="506520" y="498600"/>
            <a:ext cx="84614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 БАРЬЕРЫ  В  ТОРГОВЛ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 СОДРУЖЕСТВЕ  НЕЗАВИСИМЫХ  ГОСУДАРСТ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Прямоугольник 7"/>
          <p:cNvSpPr/>
          <p:nvPr/>
        </p:nvSpPr>
        <p:spPr>
          <a:xfrm>
            <a:off x="444600" y="4768920"/>
            <a:ext cx="78357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зличный научно-технический уровень национальных экономик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зация национальных экономик в определенных отраслях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народного хозяй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нятие мер по ограничению допуска на рынки продукци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зарубежны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Прямоугольник 4"/>
          <p:cNvSpPr/>
          <p:nvPr/>
        </p:nvSpPr>
        <p:spPr>
          <a:xfrm>
            <a:off x="2508120" y="4265640"/>
            <a:ext cx="41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Создание  дополнительных  технических барьеров в торговл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Правая фигурная скобка 6"/>
          <p:cNvSpPr/>
          <p:nvPr/>
        </p:nvSpPr>
        <p:spPr>
          <a:xfrm rot="5400000">
            <a:off x="4371480" y="1293480"/>
            <a:ext cx="333360" cy="5651640"/>
          </a:xfrm>
          <a:custGeom>
            <a:avLst/>
            <a:gdLst>
              <a:gd name="textAreaLeft" fmla="*/ 0 w 333360"/>
              <a:gd name="textAreaRight" fmla="*/ 120240 w 333360"/>
              <a:gd name="textAreaTop" fmla="*/ 43920 h 5651640"/>
              <a:gd name="textAreaBottom" fmla="*/ 5607720 h 56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415800" y="2816280"/>
            <a:ext cx="25196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объекты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технического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егулирования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6319800" y="2816280"/>
            <a:ext cx="229860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формы оценки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соответствия объект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TextBox 9"/>
          <p:cNvSpPr/>
          <p:nvPr/>
        </p:nvSpPr>
        <p:spPr>
          <a:xfrm>
            <a:off x="3511440" y="2816280"/>
            <a:ext cx="23018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требования </a:t>
            </a:r>
            <a:br>
              <a:rPr sz="1500"/>
            </a:b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к объекта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Стрелка вниз 10"/>
          <p:cNvSpPr/>
          <p:nvPr/>
        </p:nvSpPr>
        <p:spPr>
          <a:xfrm flipH="1" rot="2925600">
            <a:off x="2035800" y="2217960"/>
            <a:ext cx="466920" cy="43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Стрелка вниз 11"/>
          <p:cNvSpPr/>
          <p:nvPr/>
        </p:nvSpPr>
        <p:spPr>
          <a:xfrm flipH="1">
            <a:off x="4448160" y="2262240"/>
            <a:ext cx="455760" cy="419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Стрелка вниз 12"/>
          <p:cNvSpPr/>
          <p:nvPr/>
        </p:nvSpPr>
        <p:spPr>
          <a:xfrm flipH="1" rot="19104600">
            <a:off x="7074000" y="2231640"/>
            <a:ext cx="444240" cy="45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1" name="TextBox 13"/>
          <p:cNvGrpSpPr/>
          <p:nvPr/>
        </p:nvGrpSpPr>
        <p:grpSpPr>
          <a:xfrm>
            <a:off x="2152800" y="1511280"/>
            <a:ext cx="5083200" cy="793800"/>
            <a:chOff x="2152800" y="1511280"/>
            <a:chExt cx="5083200" cy="793800"/>
          </a:xfrm>
        </p:grpSpPr>
        <p:pic>
          <p:nvPicPr>
            <p:cNvPr id="762" name="TextBox 13" descr=""/>
            <p:cNvPicPr/>
            <p:nvPr/>
          </p:nvPicPr>
          <p:blipFill>
            <a:blip r:embed="rId1"/>
            <a:stretch/>
          </p:blipFill>
          <p:spPr>
            <a:xfrm>
              <a:off x="2152800" y="1511280"/>
              <a:ext cx="50832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212920" y="1563840"/>
              <a:ext cx="49611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  <a:ea typeface="Arial"/>
                </a:rPr>
                <a:t>Формирование национальных систем технического регулирования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6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1D74-C80A-4AFB-93A9-9303453E210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4"/>
          <p:cNvSpPr/>
          <p:nvPr/>
        </p:nvSpPr>
        <p:spPr>
          <a:xfrm>
            <a:off x="5096160" y="3095640"/>
            <a:ext cx="3087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национальных стандарт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6" name="Группа 9"/>
          <p:cNvGrpSpPr/>
          <p:nvPr/>
        </p:nvGrpSpPr>
        <p:grpSpPr>
          <a:xfrm>
            <a:off x="4494240" y="3822840"/>
            <a:ext cx="4516560" cy="2607480"/>
            <a:chOff x="4494240" y="3822840"/>
            <a:chExt cx="4516560" cy="2607480"/>
          </a:xfrm>
        </p:grpSpPr>
        <p:sp>
          <p:nvSpPr>
            <p:cNvPr id="767" name="Овал 10"/>
            <p:cNvSpPr/>
            <p:nvPr/>
          </p:nvSpPr>
          <p:spPr>
            <a:xfrm>
              <a:off x="4917960" y="4067280"/>
              <a:ext cx="3583080" cy="2175120"/>
            </a:xfrm>
            <a:prstGeom prst="ellipse">
              <a:avLst/>
            </a:prstGeom>
            <a:noFill/>
            <a:ln w="12600">
              <a:solidFill>
                <a:srgbClr val="3b3b6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8" name="TextBox 5"/>
            <p:cNvSpPr/>
            <p:nvPr/>
          </p:nvSpPr>
          <p:spPr>
            <a:xfrm>
              <a:off x="6208920" y="3822840"/>
              <a:ext cx="847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9916 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9" name="TextBox 6"/>
            <p:cNvSpPr/>
            <p:nvPr/>
          </p:nvSpPr>
          <p:spPr>
            <a:xfrm>
              <a:off x="4494240" y="483696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963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Б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0" name="TextBox 7"/>
            <p:cNvSpPr/>
            <p:nvPr/>
          </p:nvSpPr>
          <p:spPr>
            <a:xfrm>
              <a:off x="5505480" y="584964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4896</a:t>
              </a: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ДСТУ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1" name="TextBox 8"/>
            <p:cNvSpPr/>
            <p:nvPr/>
          </p:nvSpPr>
          <p:spPr>
            <a:xfrm>
              <a:off x="6794640" y="5849640"/>
              <a:ext cx="844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787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 РК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2" name="TextBox 9"/>
            <p:cNvSpPr/>
            <p:nvPr/>
          </p:nvSpPr>
          <p:spPr>
            <a:xfrm>
              <a:off x="7993440" y="4836960"/>
              <a:ext cx="10173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7934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 Р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73" name="Rectangle 4"/>
          <p:cNvSpPr/>
          <p:nvPr/>
        </p:nvSpPr>
        <p:spPr>
          <a:xfrm>
            <a:off x="-6480" y="2558880"/>
            <a:ext cx="3818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национальных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х регламентов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34800" y="3114720"/>
          <a:ext cx="3316320" cy="3378240"/>
        </p:xfrm>
        <a:graphic>
          <a:graphicData uri="http://schemas.openxmlformats.org/drawingml/2006/table">
            <a:tbl>
              <a:tblPr/>
              <a:tblGrid>
                <a:gridCol w="1665360"/>
                <a:gridCol w="1650960"/>
              </a:tblGrid>
              <a:tr h="97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ана СН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4320">
                      <a:solidFill>
                        <a:srgbClr val="438086"/>
                      </a:solidFill>
                    </a:lnL>
                    <a:lnR>
                      <a:noFill/>
                    </a:lnR>
                    <a:lnT w="4320">
                      <a:solidFill>
                        <a:srgbClr val="43808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-во национальных технических регламен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438086"/>
                      </a:solidFill>
                    </a:lnR>
                    <a:lnT w="4320">
                      <a:solidFill>
                        <a:srgbClr val="43808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21B-ABAF-42AD-B8E4-ACAA5A1952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181080" y="560520"/>
            <a:ext cx="88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БАРЬЕРЫ В ТОРГОВЛЕ 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Rectangle 52"/>
          <p:cNvSpPr/>
          <p:nvPr/>
        </p:nvSpPr>
        <p:spPr>
          <a:xfrm>
            <a:off x="3875400" y="2444760"/>
            <a:ext cx="172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Arial"/>
                <a:ea typeface="Arial"/>
              </a:rPr>
              <a:t>В ТО ЖЕ ВРЕМ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88920" y="969840"/>
            <a:ext cx="881208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Действую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проведении согласованной политики в области стандартизации, метрологии и сертификации (г. Москва, 13 марта 1992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принципах проведения и взаимном признании работ по сертификации (г. Краснодар, 4 июня 1992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095F-B36A-4951-AED2-7AF6CA6A50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209520" y="595440"/>
            <a:ext cx="8934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БСУЖДАЕМЫЕ МЕХАНИЗМЫ УСТРАНЕНИЯ ТБТ В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81" name="AutoShape 7"/>
          <p:cNvGrpSpPr/>
          <p:nvPr/>
        </p:nvGrpSpPr>
        <p:grpSpPr>
          <a:xfrm>
            <a:off x="317520" y="4505400"/>
            <a:ext cx="3511440" cy="426960"/>
            <a:chOff x="317520" y="4505400"/>
            <a:chExt cx="3511440" cy="426960"/>
          </a:xfrm>
        </p:grpSpPr>
        <p:pic>
          <p:nvPicPr>
            <p:cNvPr id="782" name="AutoShape 7" descr=""/>
            <p:cNvPicPr/>
            <p:nvPr/>
          </p:nvPicPr>
          <p:blipFill>
            <a:blip r:embed="rId1"/>
            <a:stretch/>
          </p:blipFill>
          <p:spPr>
            <a:xfrm>
              <a:off x="317520" y="4505400"/>
              <a:ext cx="3511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380880" y="4540320"/>
              <a:ext cx="3381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Принятие межгосударственных ТР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84" name="AutoShape 7"/>
          <p:cNvGrpSpPr/>
          <p:nvPr/>
        </p:nvGrpSpPr>
        <p:grpSpPr>
          <a:xfrm>
            <a:off x="5327640" y="1414440"/>
            <a:ext cx="3560760" cy="822240"/>
            <a:chOff x="5327640" y="1414440"/>
            <a:chExt cx="3560760" cy="822240"/>
          </a:xfrm>
        </p:grpSpPr>
        <p:pic>
          <p:nvPicPr>
            <p:cNvPr id="785" name="AutoShape 7" descr=""/>
            <p:cNvPicPr/>
            <p:nvPr/>
          </p:nvPicPr>
          <p:blipFill>
            <a:blip r:embed="rId2"/>
            <a:stretch/>
          </p:blipFill>
          <p:spPr>
            <a:xfrm>
              <a:off x="5327640" y="1414440"/>
              <a:ext cx="35607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5419800" y="1476360"/>
              <a:ext cx="33717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Взаимное признание национальных сертификатов соответствия на продукцию, производимую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87" name="Нашивка 26"/>
          <p:cNvGrpSpPr/>
          <p:nvPr/>
        </p:nvGrpSpPr>
        <p:grpSpPr>
          <a:xfrm>
            <a:off x="4218120" y="1652760"/>
            <a:ext cx="403200" cy="414000"/>
            <a:chOff x="4218120" y="1652760"/>
            <a:chExt cx="403200" cy="414000"/>
          </a:xfrm>
        </p:grpSpPr>
        <p:pic>
          <p:nvPicPr>
            <p:cNvPr id="788" name="Нашивка 26" descr=""/>
            <p:cNvPicPr/>
            <p:nvPr/>
          </p:nvPicPr>
          <p:blipFill>
            <a:blip r:embed="rId3"/>
            <a:stretch/>
          </p:blipFill>
          <p:spPr>
            <a:xfrm>
              <a:off x="4218120" y="1652760"/>
              <a:ext cx="40320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4287960" y="16891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90" name="Прямая соединительная линия 34"/>
          <p:cNvSpPr/>
          <p:nvPr/>
        </p:nvSpPr>
        <p:spPr>
          <a:xfrm>
            <a:off x="4610160" y="1106640"/>
            <a:ext cx="0" cy="5389560"/>
          </a:xfrm>
          <a:prstGeom prst="line">
            <a:avLst/>
          </a:prstGeom>
          <a:ln w="19080">
            <a:solidFill>
              <a:srgbClr val="43808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91" name="Штриховая стрелка вправо 27"/>
          <p:cNvGrpSpPr/>
          <p:nvPr/>
        </p:nvGrpSpPr>
        <p:grpSpPr>
          <a:xfrm>
            <a:off x="4290840" y="4522680"/>
            <a:ext cx="793800" cy="366840"/>
            <a:chOff x="4290840" y="4522680"/>
            <a:chExt cx="793800" cy="366840"/>
          </a:xfrm>
        </p:grpSpPr>
        <p:pic>
          <p:nvPicPr>
            <p:cNvPr id="792" name="Штриховая стрелка вправо 27" descr=""/>
            <p:cNvPicPr/>
            <p:nvPr/>
          </p:nvPicPr>
          <p:blipFill>
            <a:blip r:embed="rId4"/>
            <a:stretch/>
          </p:blipFill>
          <p:spPr>
            <a:xfrm>
              <a:off x="4290840" y="4522680"/>
              <a:ext cx="79380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389480" y="4613400"/>
              <a:ext cx="5270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94" name="Прямая соединительная линия 31"/>
          <p:cNvSpPr/>
          <p:nvPr/>
        </p:nvSpPr>
        <p:spPr>
          <a:xfrm>
            <a:off x="4351320" y="4424400"/>
            <a:ext cx="5763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5" name="Прямая соединительная линия 32"/>
          <p:cNvSpPr/>
          <p:nvPr/>
        </p:nvSpPr>
        <p:spPr>
          <a:xfrm flipV="1">
            <a:off x="4351320" y="4424040"/>
            <a:ext cx="4809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96" name="Прямоугольник с двумя скругленными противолежащими углами 33"/>
          <p:cNvGrpSpPr/>
          <p:nvPr/>
        </p:nvGrpSpPr>
        <p:grpSpPr>
          <a:xfrm>
            <a:off x="23760" y="963720"/>
            <a:ext cx="3309840" cy="536400"/>
            <a:chOff x="23760" y="963720"/>
            <a:chExt cx="3309840" cy="536400"/>
          </a:xfrm>
        </p:grpSpPr>
        <p:pic>
          <p:nvPicPr>
            <p:cNvPr id="797" name="Прямоугольник с двумя скругленными противолежащими углами 33" descr=""/>
            <p:cNvPicPr/>
            <p:nvPr/>
          </p:nvPicPr>
          <p:blipFill>
            <a:blip r:embed="rId5"/>
            <a:stretch/>
          </p:blipFill>
          <p:spPr>
            <a:xfrm>
              <a:off x="23760" y="963720"/>
              <a:ext cx="3309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08000" y="1069920"/>
              <a:ext cx="31449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ложено к рассмотрению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99" name="Прямоугольник с двумя скругленными противолежащими углами 36"/>
          <p:cNvGrpSpPr/>
          <p:nvPr/>
        </p:nvGrpSpPr>
        <p:grpSpPr>
          <a:xfrm>
            <a:off x="6138720" y="969840"/>
            <a:ext cx="2998800" cy="534960"/>
            <a:chOff x="6138720" y="969840"/>
            <a:chExt cx="2998800" cy="534960"/>
          </a:xfrm>
        </p:grpSpPr>
        <p:pic>
          <p:nvPicPr>
            <p:cNvPr id="800" name="Прямоугольник с двумя скругленными противолежащими углами 36" descr=""/>
            <p:cNvPicPr/>
            <p:nvPr/>
          </p:nvPicPr>
          <p:blipFill>
            <a:blip r:embed="rId6"/>
            <a:stretch/>
          </p:blipFill>
          <p:spPr>
            <a:xfrm>
              <a:off x="6138720" y="969840"/>
              <a:ext cx="29988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6224760" y="1079640"/>
              <a:ext cx="2828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тоги работы РГ ЗСТ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02" name="AutoShape 7"/>
          <p:cNvGrpSpPr/>
          <p:nvPr/>
        </p:nvGrpSpPr>
        <p:grpSpPr>
          <a:xfrm>
            <a:off x="317520" y="4870440"/>
            <a:ext cx="3511440" cy="976320"/>
            <a:chOff x="317520" y="4870440"/>
            <a:chExt cx="3511440" cy="976320"/>
          </a:xfrm>
        </p:grpSpPr>
        <p:pic>
          <p:nvPicPr>
            <p:cNvPr id="803" name="AutoShape 7" descr=""/>
            <p:cNvPicPr/>
            <p:nvPr/>
          </p:nvPicPr>
          <p:blipFill>
            <a:blip r:embed="rId7"/>
            <a:stretch/>
          </p:blipFill>
          <p:spPr>
            <a:xfrm>
              <a:off x="317520" y="4870440"/>
              <a:ext cx="35114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80880" y="4906800"/>
              <a:ext cx="3381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Формирование Единого перечня продукции, подлежащей  обязательной ОС </a:t>
              </a:r>
              <a:r>
                <a:rPr b="0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(при применении ГОСТ на требования и методы испытаний)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05" name="AutoShape 7"/>
          <p:cNvGrpSpPr/>
          <p:nvPr/>
        </p:nvGrpSpPr>
        <p:grpSpPr>
          <a:xfrm>
            <a:off x="317520" y="1414440"/>
            <a:ext cx="3511440" cy="811080"/>
            <a:chOff x="317520" y="1414440"/>
            <a:chExt cx="3511440" cy="811080"/>
          </a:xfrm>
        </p:grpSpPr>
        <p:pic>
          <p:nvPicPr>
            <p:cNvPr id="806" name="AutoShape 7" descr=""/>
            <p:cNvPicPr/>
            <p:nvPr/>
          </p:nvPicPr>
          <p:blipFill>
            <a:blip r:embed="rId8"/>
            <a:stretch/>
          </p:blipFill>
          <p:spPr>
            <a:xfrm>
              <a:off x="317520" y="1414440"/>
              <a:ext cx="3511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80880" y="1447920"/>
              <a:ext cx="338148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Взаимное признание национальных сертификатов соответствия на продукцию, производимую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08" name="AutoShape 7"/>
          <p:cNvGrpSpPr/>
          <p:nvPr/>
        </p:nvGrpSpPr>
        <p:grpSpPr>
          <a:xfrm>
            <a:off x="317520" y="5772240"/>
            <a:ext cx="3511440" cy="799920"/>
            <a:chOff x="317520" y="5772240"/>
            <a:chExt cx="3511440" cy="799920"/>
          </a:xfrm>
        </p:grpSpPr>
        <p:pic>
          <p:nvPicPr>
            <p:cNvPr id="809" name="AutoShape 7" descr=""/>
            <p:cNvPicPr/>
            <p:nvPr/>
          </p:nvPicPr>
          <p:blipFill>
            <a:blip r:embed="rId9"/>
            <a:stretch/>
          </p:blipFill>
          <p:spPr>
            <a:xfrm>
              <a:off x="317520" y="5772240"/>
              <a:ext cx="351144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380880" y="5810400"/>
              <a:ext cx="33814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Формирование Единого перечня продукции, подлежащей  обязательной ОС </a:t>
              </a:r>
              <a:r>
                <a:rPr b="0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(при применении ГОСТ на требования)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1" name="AutoShape 7"/>
          <p:cNvGrpSpPr/>
          <p:nvPr/>
        </p:nvGrpSpPr>
        <p:grpSpPr>
          <a:xfrm>
            <a:off x="317520" y="2206800"/>
            <a:ext cx="3511440" cy="633240"/>
            <a:chOff x="317520" y="2206800"/>
            <a:chExt cx="3511440" cy="633240"/>
          </a:xfrm>
        </p:grpSpPr>
        <p:pic>
          <p:nvPicPr>
            <p:cNvPr id="812" name="AutoShape 7" descr=""/>
            <p:cNvPicPr/>
            <p:nvPr/>
          </p:nvPicPr>
          <p:blipFill>
            <a:blip r:embed="rId10"/>
            <a:stretch/>
          </p:blipFill>
          <p:spPr>
            <a:xfrm>
              <a:off x="317520" y="2206800"/>
              <a:ext cx="35114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380880" y="2244600"/>
              <a:ext cx="3381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Признание протоколов испытаний продукции, производимой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4" name="AutoShape 7"/>
          <p:cNvGrpSpPr/>
          <p:nvPr/>
        </p:nvGrpSpPr>
        <p:grpSpPr>
          <a:xfrm>
            <a:off x="324000" y="2816280"/>
            <a:ext cx="3504960" cy="628560"/>
            <a:chOff x="324000" y="2816280"/>
            <a:chExt cx="3504960" cy="628560"/>
          </a:xfrm>
        </p:grpSpPr>
        <p:pic>
          <p:nvPicPr>
            <p:cNvPr id="815" name="AutoShape 7" descr=""/>
            <p:cNvPicPr/>
            <p:nvPr/>
          </p:nvPicPr>
          <p:blipFill>
            <a:blip r:embed="rId11"/>
            <a:stretch/>
          </p:blipFill>
          <p:spPr>
            <a:xfrm>
              <a:off x="324000" y="2816280"/>
              <a:ext cx="35049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382680" y="2849400"/>
              <a:ext cx="33796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Признание работ по ОС, основанное на заключении двусторонних соглашений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7" name="AutoShape 7"/>
          <p:cNvGrpSpPr/>
          <p:nvPr/>
        </p:nvGrpSpPr>
        <p:grpSpPr>
          <a:xfrm>
            <a:off x="5327640" y="2206800"/>
            <a:ext cx="3560760" cy="633240"/>
            <a:chOff x="5327640" y="2206800"/>
            <a:chExt cx="3560760" cy="633240"/>
          </a:xfrm>
        </p:grpSpPr>
        <p:pic>
          <p:nvPicPr>
            <p:cNvPr id="818" name="AutoShape 7" descr=""/>
            <p:cNvPicPr/>
            <p:nvPr/>
          </p:nvPicPr>
          <p:blipFill>
            <a:blip r:embed="rId12"/>
            <a:stretch/>
          </p:blipFill>
          <p:spPr>
            <a:xfrm>
              <a:off x="5327640" y="2206800"/>
              <a:ext cx="35607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5411880" y="2265480"/>
              <a:ext cx="33876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Признание протоколов испытаний продукции, производимой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20" name="AutoShape 7"/>
          <p:cNvGrpSpPr/>
          <p:nvPr/>
        </p:nvGrpSpPr>
        <p:grpSpPr>
          <a:xfrm>
            <a:off x="5327640" y="2816280"/>
            <a:ext cx="3560760" cy="633240"/>
            <a:chOff x="5327640" y="2816280"/>
            <a:chExt cx="3560760" cy="633240"/>
          </a:xfrm>
        </p:grpSpPr>
        <p:pic>
          <p:nvPicPr>
            <p:cNvPr id="821" name="AutoShape 7" descr=""/>
            <p:cNvPicPr/>
            <p:nvPr/>
          </p:nvPicPr>
          <p:blipFill>
            <a:blip r:embed="rId13"/>
            <a:stretch/>
          </p:blipFill>
          <p:spPr>
            <a:xfrm>
              <a:off x="5327640" y="2816280"/>
              <a:ext cx="35607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5411880" y="2871720"/>
              <a:ext cx="3387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Признание работ по ОС, основанное на заключении </a:t>
              </a:r>
              <a:r>
                <a:rPr b="1" lang="ru-RU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вусторонних</a:t>
              </a: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 соглашений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23" name="AutoShape 7"/>
          <p:cNvSpPr/>
          <p:nvPr/>
        </p:nvSpPr>
        <p:spPr>
          <a:xfrm>
            <a:off x="5391000" y="3459240"/>
            <a:ext cx="3429000" cy="501480"/>
          </a:xfrm>
          <a:prstGeom prst="roundRect">
            <a:avLst>
              <a:gd name="adj" fmla="val 14241"/>
            </a:avLst>
          </a:prstGeom>
          <a:gradFill rotWithShape="0">
            <a:gsLst>
              <a:gs pos="0">
                <a:srgbClr val="cdf2ff"/>
              </a:gs>
              <a:gs pos="100000">
                <a:srgbClr val="3fccff"/>
              </a:gs>
            </a:gsLst>
            <a:lin ang="0"/>
          </a:gradFill>
          <a:ln w="1584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Признание работ по ОС, основанное на заключени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многосторонних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 соглашений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4" name="AutoShape 7"/>
          <p:cNvSpPr/>
          <p:nvPr/>
        </p:nvSpPr>
        <p:spPr>
          <a:xfrm>
            <a:off x="5391000" y="4056120"/>
            <a:ext cx="3429000" cy="501480"/>
          </a:xfrm>
          <a:prstGeom prst="roundRect">
            <a:avLst>
              <a:gd name="adj" fmla="val 14241"/>
            </a:avLst>
          </a:prstGeom>
          <a:gradFill rotWithShape="0">
            <a:gsLst>
              <a:gs pos="0">
                <a:srgbClr val="cdf2ff"/>
              </a:gs>
              <a:gs pos="100000">
                <a:srgbClr val="3fccff"/>
              </a:gs>
            </a:gsLst>
            <a:lin ang="0"/>
          </a:gradFill>
          <a:ln w="1584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Признание работ по ОС, основанное на эквивалентности ТР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25" name="Нашивка 49"/>
          <p:cNvGrpSpPr/>
          <p:nvPr/>
        </p:nvGrpSpPr>
        <p:grpSpPr>
          <a:xfrm>
            <a:off x="4419720" y="1652760"/>
            <a:ext cx="401400" cy="414000"/>
            <a:chOff x="4419720" y="1652760"/>
            <a:chExt cx="401400" cy="414000"/>
          </a:xfrm>
        </p:grpSpPr>
        <p:pic>
          <p:nvPicPr>
            <p:cNvPr id="826" name="Нашивка 49" descr=""/>
            <p:cNvPicPr/>
            <p:nvPr/>
          </p:nvPicPr>
          <p:blipFill>
            <a:blip r:embed="rId14"/>
            <a:stretch/>
          </p:blipFill>
          <p:spPr>
            <a:xfrm>
              <a:off x="4419720" y="1652760"/>
              <a:ext cx="40140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4486320" y="16891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28" name="Нашивка 50"/>
          <p:cNvGrpSpPr/>
          <p:nvPr/>
        </p:nvGrpSpPr>
        <p:grpSpPr>
          <a:xfrm>
            <a:off x="4621320" y="1652760"/>
            <a:ext cx="395280" cy="414000"/>
            <a:chOff x="4621320" y="1652760"/>
            <a:chExt cx="395280" cy="414000"/>
          </a:xfrm>
        </p:grpSpPr>
        <p:pic>
          <p:nvPicPr>
            <p:cNvPr id="829" name="Нашивка 50" descr=""/>
            <p:cNvPicPr/>
            <p:nvPr/>
          </p:nvPicPr>
          <p:blipFill>
            <a:blip r:embed="rId15"/>
            <a:stretch/>
          </p:blipFill>
          <p:spPr>
            <a:xfrm>
              <a:off x="4621320" y="1652760"/>
              <a:ext cx="39528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684680" y="16891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31" name="Нашивка 51"/>
          <p:cNvGrpSpPr/>
          <p:nvPr/>
        </p:nvGrpSpPr>
        <p:grpSpPr>
          <a:xfrm>
            <a:off x="4218120" y="2346480"/>
            <a:ext cx="403200" cy="415800"/>
            <a:chOff x="4218120" y="2346480"/>
            <a:chExt cx="403200" cy="415800"/>
          </a:xfrm>
        </p:grpSpPr>
        <p:pic>
          <p:nvPicPr>
            <p:cNvPr id="832" name="Нашивка 51" descr=""/>
            <p:cNvPicPr/>
            <p:nvPr/>
          </p:nvPicPr>
          <p:blipFill>
            <a:blip r:embed="rId16"/>
            <a:stretch/>
          </p:blipFill>
          <p:spPr>
            <a:xfrm>
              <a:off x="4218120" y="2346480"/>
              <a:ext cx="4032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4287960" y="238608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34" name="Нашивка 52"/>
          <p:cNvGrpSpPr/>
          <p:nvPr/>
        </p:nvGrpSpPr>
        <p:grpSpPr>
          <a:xfrm>
            <a:off x="4419720" y="2346480"/>
            <a:ext cx="401400" cy="415800"/>
            <a:chOff x="4419720" y="2346480"/>
            <a:chExt cx="401400" cy="415800"/>
          </a:xfrm>
        </p:grpSpPr>
        <p:pic>
          <p:nvPicPr>
            <p:cNvPr id="835" name="Нашивка 52" descr=""/>
            <p:cNvPicPr/>
            <p:nvPr/>
          </p:nvPicPr>
          <p:blipFill>
            <a:blip r:embed="rId17"/>
            <a:stretch/>
          </p:blipFill>
          <p:spPr>
            <a:xfrm>
              <a:off x="4419720" y="2346480"/>
              <a:ext cx="4014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486320" y="238608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37" name="Нашивка 53"/>
          <p:cNvGrpSpPr/>
          <p:nvPr/>
        </p:nvGrpSpPr>
        <p:grpSpPr>
          <a:xfrm>
            <a:off x="4621320" y="2346480"/>
            <a:ext cx="395280" cy="415800"/>
            <a:chOff x="4621320" y="2346480"/>
            <a:chExt cx="395280" cy="415800"/>
          </a:xfrm>
        </p:grpSpPr>
        <p:pic>
          <p:nvPicPr>
            <p:cNvPr id="838" name="Нашивка 53" descr=""/>
            <p:cNvPicPr/>
            <p:nvPr/>
          </p:nvPicPr>
          <p:blipFill>
            <a:blip r:embed="rId18"/>
            <a:stretch/>
          </p:blipFill>
          <p:spPr>
            <a:xfrm>
              <a:off x="4621320" y="2346480"/>
              <a:ext cx="3952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4684680" y="238608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0" name="Нашивка 54"/>
          <p:cNvGrpSpPr/>
          <p:nvPr/>
        </p:nvGrpSpPr>
        <p:grpSpPr>
          <a:xfrm>
            <a:off x="4218120" y="2925720"/>
            <a:ext cx="403200" cy="414360"/>
            <a:chOff x="4218120" y="2925720"/>
            <a:chExt cx="403200" cy="414360"/>
          </a:xfrm>
        </p:grpSpPr>
        <p:pic>
          <p:nvPicPr>
            <p:cNvPr id="841" name="Нашивка 54" descr=""/>
            <p:cNvPicPr/>
            <p:nvPr/>
          </p:nvPicPr>
          <p:blipFill>
            <a:blip r:embed="rId19"/>
            <a:stretch/>
          </p:blipFill>
          <p:spPr>
            <a:xfrm>
              <a:off x="4218120" y="2925720"/>
              <a:ext cx="4032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4287960" y="29653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3" name="Нашивка 55"/>
          <p:cNvGrpSpPr/>
          <p:nvPr/>
        </p:nvGrpSpPr>
        <p:grpSpPr>
          <a:xfrm>
            <a:off x="4419720" y="2925720"/>
            <a:ext cx="401400" cy="414360"/>
            <a:chOff x="4419720" y="2925720"/>
            <a:chExt cx="401400" cy="414360"/>
          </a:xfrm>
        </p:grpSpPr>
        <p:pic>
          <p:nvPicPr>
            <p:cNvPr id="844" name="Нашивка 55" descr=""/>
            <p:cNvPicPr/>
            <p:nvPr/>
          </p:nvPicPr>
          <p:blipFill>
            <a:blip r:embed="rId20"/>
            <a:stretch/>
          </p:blipFill>
          <p:spPr>
            <a:xfrm>
              <a:off x="4419720" y="2925720"/>
              <a:ext cx="4014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4486320" y="29653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6" name="Нашивка 56"/>
          <p:cNvGrpSpPr/>
          <p:nvPr/>
        </p:nvGrpSpPr>
        <p:grpSpPr>
          <a:xfrm>
            <a:off x="4621320" y="2925720"/>
            <a:ext cx="395280" cy="414360"/>
            <a:chOff x="4621320" y="2925720"/>
            <a:chExt cx="395280" cy="414360"/>
          </a:xfrm>
        </p:grpSpPr>
        <p:pic>
          <p:nvPicPr>
            <p:cNvPr id="847" name="Нашивка 56" descr=""/>
            <p:cNvPicPr/>
            <p:nvPr/>
          </p:nvPicPr>
          <p:blipFill>
            <a:blip r:embed="rId21"/>
            <a:stretch/>
          </p:blipFill>
          <p:spPr>
            <a:xfrm>
              <a:off x="4621320" y="2925720"/>
              <a:ext cx="395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4684680" y="29653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9" name="Штриховая стрелка вправо 72"/>
          <p:cNvGrpSpPr/>
          <p:nvPr/>
        </p:nvGrpSpPr>
        <p:grpSpPr>
          <a:xfrm>
            <a:off x="4290840" y="5121360"/>
            <a:ext cx="793800" cy="371520"/>
            <a:chOff x="4290840" y="5121360"/>
            <a:chExt cx="793800" cy="371520"/>
          </a:xfrm>
        </p:grpSpPr>
        <p:pic>
          <p:nvPicPr>
            <p:cNvPr id="850" name="Штриховая стрелка вправо 72" descr=""/>
            <p:cNvPicPr/>
            <p:nvPr/>
          </p:nvPicPr>
          <p:blipFill>
            <a:blip r:embed="rId22"/>
            <a:stretch/>
          </p:blipFill>
          <p:spPr>
            <a:xfrm>
              <a:off x="4290840" y="5121360"/>
              <a:ext cx="793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4389480" y="5214960"/>
              <a:ext cx="527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52" name="Прямая соединительная линия 73"/>
          <p:cNvSpPr/>
          <p:nvPr/>
        </p:nvSpPr>
        <p:spPr>
          <a:xfrm>
            <a:off x="4351320" y="5025960"/>
            <a:ext cx="5763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Прямая соединительная линия 74"/>
          <p:cNvSpPr/>
          <p:nvPr/>
        </p:nvSpPr>
        <p:spPr>
          <a:xfrm flipV="1">
            <a:off x="4351320" y="5025600"/>
            <a:ext cx="4809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54" name="Штриховая стрелка вправо 75"/>
          <p:cNvGrpSpPr/>
          <p:nvPr/>
        </p:nvGrpSpPr>
        <p:grpSpPr>
          <a:xfrm>
            <a:off x="4290840" y="6035760"/>
            <a:ext cx="793800" cy="365040"/>
            <a:chOff x="4290840" y="6035760"/>
            <a:chExt cx="793800" cy="365040"/>
          </a:xfrm>
        </p:grpSpPr>
        <p:pic>
          <p:nvPicPr>
            <p:cNvPr id="855" name="Штриховая стрелка вправо 75" descr=""/>
            <p:cNvPicPr/>
            <p:nvPr/>
          </p:nvPicPr>
          <p:blipFill>
            <a:blip r:embed="rId23"/>
            <a:stretch/>
          </p:blipFill>
          <p:spPr>
            <a:xfrm>
              <a:off x="4290840" y="6035760"/>
              <a:ext cx="79380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4389480" y="6124680"/>
              <a:ext cx="527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57" name="Прямая соединительная линия 76"/>
          <p:cNvSpPr/>
          <p:nvPr/>
        </p:nvSpPr>
        <p:spPr>
          <a:xfrm>
            <a:off x="4351320" y="5935680"/>
            <a:ext cx="5763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Прямая соединительная линия 77"/>
          <p:cNvSpPr/>
          <p:nvPr/>
        </p:nvSpPr>
        <p:spPr>
          <a:xfrm flipV="1">
            <a:off x="4351320" y="5935320"/>
            <a:ext cx="4809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233280" y="70344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1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Взаимное признание национальных сертифика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соответствия на продукцию, производимую в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на основе действующего Соглашен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Прямоугольник 4"/>
          <p:cNvSpPr/>
          <p:nvPr/>
        </p:nvSpPr>
        <p:spPr>
          <a:xfrm>
            <a:off x="106200" y="2814480"/>
            <a:ext cx="901404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озможность установления требований к продукции и методов испытаний в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национальных технических регламентах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и стандартах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процедуры признания путем сравнительного анализа требований в национальных документах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по признанию сертификатов соответствия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,  аккредитованными на данный вид деятель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информационного перечня уполномоченных орган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сертификата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7184-44DD-4899-923E-580F892434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233280" y="2084400"/>
            <a:ext cx="8759880" cy="7016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сертификаты соответствия на продукцию из третьих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ран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не признаютс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/>
          <p:cNvSpPr/>
          <p:nvPr/>
        </p:nvSpPr>
        <p:spPr>
          <a:xfrm>
            <a:off x="233280" y="90324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протоколов испытаний продукци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оизводимой в государствах - участни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на основе действующего Соглашен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Прямоугольник 4"/>
          <p:cNvSpPr/>
          <p:nvPr/>
        </p:nvSpPr>
        <p:spPr>
          <a:xfrm>
            <a:off x="130320" y="3673440"/>
            <a:ext cx="901368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рганов по сертификации и испытательных лабораторий 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0A9B-DA2E-42EE-BCB1-DAD7EE89C6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233280" y="2162160"/>
            <a:ext cx="8359920" cy="15019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должны соблюдаться услов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етоды испытаний должны быть валидирован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е лаборатории должны быть аккредитованы в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ой системе аккредита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рок действия протоколов испытаний должен быть не более 1 год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833400" y="5056200"/>
            <a:ext cx="7759800" cy="6033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 indent="-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национальные документы вписываются протоколы испытаний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х лабораторий государств – участников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/>
          <p:cNvSpPr/>
          <p:nvPr/>
        </p:nvSpPr>
        <p:spPr>
          <a:xfrm>
            <a:off x="233280" y="569880"/>
            <a:ext cx="87598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3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заключении двусторонних соглашений между О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Прямоугольник 4"/>
          <p:cNvSpPr/>
          <p:nvPr/>
        </p:nvSpPr>
        <p:spPr>
          <a:xfrm>
            <a:off x="106200" y="1974960"/>
            <a:ext cx="90140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писание органами по оценке (подтверждению) соответствия двусторонних Соглаше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рганов по сертификации и испытательных лабораторий  в национальных системах аккредит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взаимных оценок и сличительных испыта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документов по оценке соответствия, в том числе протоколов испытаний, органами по оценке (подтверждению) соответствия, подписавшими двустороннее Согла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CB1-F0EB-440C-A491-ED22F53B54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493560" y="2666880"/>
            <a:ext cx="8239320" cy="5907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-1746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органа по оценке (подтверждению) соответствия должна входи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испытательная лаборатор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233280" y="493560"/>
            <a:ext cx="87598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4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заключении многосторонних соглашений о взаимном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и результатов работ по оценке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Прямоугольник 4"/>
          <p:cNvSpPr/>
          <p:nvPr/>
        </p:nvSpPr>
        <p:spPr>
          <a:xfrm>
            <a:off x="106200" y="2136600"/>
            <a:ext cx="90140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писание уполномоченными органами стран СНГ  многосторонних Соглаше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работ, проводимых органами по оценке (подтверждению) соответствия, подписавшими многостороннее Согла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B53-9F26-4E98-B576-A3D4CC8EBE1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233280" y="2828880"/>
            <a:ext cx="8506080" cy="166860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многостороннее Соглашение включает в себ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чень видов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чень документов, устанавливающих требования к продукции 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оцедурам оценки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чень органов по оценке (подтверждению) соответствия, результа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бот которых признаютс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1:54:20Z</dcterms:created>
  <dc:creator>client906_5</dc:creator>
  <dc:description/>
  <dc:language>en-US</dc:language>
  <cp:lastModifiedBy>client406_1</cp:lastModifiedBy>
  <cp:lastPrinted>2014-09-24T11:03:08Z</cp:lastPrinted>
  <dcterms:modified xsi:type="dcterms:W3CDTF">2014-12-03T14:32:23Z</dcterms:modified>
  <cp:revision>774</cp:revision>
  <dc:subject/>
  <dc:title>Таможенный союз</dc:title>
</cp:coreProperties>
</file>