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ACB2-3FC2-462B-964C-381B5FFFB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0811-5484-425A-82D1-6B334FAEB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AB0B-7B8F-40B2-A4DD-A76CF785C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2E89-FF88-4BC5-AC4B-9CF9A127F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707D9-EF3C-4BCD-B64A-920FEA9F4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6D5D6-B179-4244-9F0D-D68AC25DC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28E71-DEE7-4480-AFFC-CD1656BFD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12EA5-85B6-4A77-A831-FF3C7755F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83A2F-A1F7-4028-BCC0-967B37539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97B0E-9098-48A6-B2F1-58400A076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8519A-0631-4729-BA34-FF4F74BE2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68DB-E948-4BE4-9E33-12855C044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AB6CF-4DCF-45FF-9816-A8356630F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5BB06-8C24-4B92-964F-51630B913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30119-D092-42AD-8BC4-FE14D7EFC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17CEE-B17A-4D2B-961E-CB03742EC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BA499-18AC-4A4C-8F04-CF6EDA38B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8F27-409B-4F3D-B7EF-80003CE55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EDAA-0992-42D3-AE98-EAB414E1E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54EC-4D6B-44A0-B057-2C1468383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D6CE-761A-4F2E-A918-849576840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406A-5D67-4A64-8886-2F7C75D65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9149-7281-4463-B22A-A23C1BC29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1DFD-B2E3-4105-8D59-9556A6469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back_"/>
          <p:cNvPicPr/>
          <p:nvPr/>
        </p:nvPicPr>
        <p:blipFill>
          <a:blip r:embed="rId2"/>
          <a:stretch/>
        </p:blipFill>
        <p:spPr>
          <a:xfrm>
            <a:off x="-4680" y="-3240"/>
            <a:ext cx="9916920" cy="6865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F0003-7868-41AA-85CA-2409028A1908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607BB-DCFE-4187-81E5-E476AFC7027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AF31B-E62E-4E04-B644-9FF61D6D8FF7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7EBE3-B52F-4B13-BAB9-8DF01ED7674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os-etalon.ru/DB/com/index.htm?RU,MGS_EIU" TargetMode="External"/><Relationship Id="rId2" Type="http://schemas.openxmlformats.org/officeDocument/2006/relationships/hyperlink" Target="http://www.gos-etalon.ru/DB/com/index.htm?RU,MGS_EIU" TargetMode="External"/><Relationship Id="rId3" Type="http://schemas.openxmlformats.org/officeDocument/2006/relationships/hyperlink" Target="http://www.gos-etalon.ru/DB/com/index.htm?RU,MGS_EIU" TargetMode="External"/><Relationship Id="rId4" Type="http://schemas.openxmlformats.org/officeDocument/2006/relationships/hyperlink" Target="http://www.gos-etalon.ru/DB/com/index.htm?RU,MGS_EIU" TargetMode="External"/><Relationship Id="rId5" Type="http://schemas.openxmlformats.org/officeDocument/2006/relationships/hyperlink" Target="http://www.gos-etalon.ru/DB/com/index.htm?RU,MGS_EIU" TargetMode="External"/><Relationship Id="rId6" Type="http://schemas.openxmlformats.org/officeDocument/2006/relationships/hyperlink" Target="http://www.gos-etalon.ru/DB/com/index.htm?RU,MGS_EIU" TargetMode="External"/><Relationship Id="rId7" Type="http://schemas.openxmlformats.org/officeDocument/2006/relationships/hyperlink" Target="http://www.gos-etalon.ru/DB/com/index.htm?RU,MGS_EIU" TargetMode="External"/><Relationship Id="rId8" Type="http://schemas.openxmlformats.org/officeDocument/2006/relationships/hyperlink" Target="http://www.gos-etalon.ru/DB/com/index.htm?RU,MGS_EIU" TargetMode="External"/><Relationship Id="rId9" Type="http://schemas.openxmlformats.org/officeDocument/2006/relationships/hyperlink" Target="http://www.gos-etalon.ru/DB/com/index.htm?RU,MGS_EIU" TargetMode="External"/><Relationship Id="rId10" Type="http://schemas.openxmlformats.org/officeDocument/2006/relationships/hyperlink" Target="http://www.gos-etalon.ru/DB/com/index.htm?RU,MGS_EIU" TargetMode="External"/><Relationship Id="rId11" Type="http://schemas.openxmlformats.org/officeDocument/2006/relationships/hyperlink" Target="http://www.gos-etalon.ru/DB/com/index.htm?RU,MGS_EIU" TargetMode="External"/><Relationship Id="rId12" Type="http://schemas.openxmlformats.org/officeDocument/2006/relationships/hyperlink" Target="http://www.gos-etalon.ru/DB/com/index.htm?RU,MGS_EIU" TargetMode="External"/><Relationship Id="rId13" Type="http://schemas.openxmlformats.org/officeDocument/2006/relationships/hyperlink" Target="http://www.gos-etalon.ru/DB/com/index.htm?RU,MGS_EIU" TargetMode="External"/><Relationship Id="rId14" Type="http://schemas.openxmlformats.org/officeDocument/2006/relationships/hyperlink" Target="http://www.gos-etalon.ru/DB/com/index.htm?RU,MGS_EIU" TargetMode="External"/><Relationship Id="rId15" Type="http://schemas.openxmlformats.org/officeDocument/2006/relationships/hyperlink" Target="http://www.gos-etalon.ru/DB/com/index.htm?RU,MGS_EIU" TargetMode="External"/><Relationship Id="rId16" Type="http://schemas.openxmlformats.org/officeDocument/2006/relationships/hyperlink" Target="http://www.gos-etalon.ru/DB/com/index.htm?RU,MGS_EIU" TargetMode="External"/><Relationship Id="rId17" Type="http://schemas.openxmlformats.org/officeDocument/2006/relationships/hyperlink" Target="http://www.gos-etalon.ru/DB/com/index.htm?RU,MGS_EIU" TargetMode="External"/><Relationship Id="rId18" Type="http://schemas.openxmlformats.org/officeDocument/2006/relationships/hyperlink" Target="http://www.gos-etalon.ru/DB/com/index.htm?RU,MGS_EIU" TargetMode="External"/><Relationship Id="rId1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2680" y="230796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4" descr="uuu1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Box 20"/>
          <p:cNvSpPr/>
          <p:nvPr/>
        </p:nvSpPr>
        <p:spPr>
          <a:xfrm>
            <a:off x="3243240" y="1465200"/>
            <a:ext cx="615492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ru-RU" sz="17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ФГУП «Всероссийский научно-исследовательский институт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ru-RU" sz="17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физико-технических  и радиотехнических измерений»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9" descr=""/>
          <p:cNvPicPr/>
          <p:nvPr/>
        </p:nvPicPr>
        <p:blipFill>
          <a:blip r:embed="rId2"/>
          <a:stretch/>
        </p:blipFill>
        <p:spPr>
          <a:xfrm>
            <a:off x="8272440" y="210960"/>
            <a:ext cx="995400" cy="949680"/>
          </a:xfrm>
          <a:prstGeom prst="rect">
            <a:avLst/>
          </a:prstGeom>
          <a:ln w="0">
            <a:noFill/>
          </a:ln>
        </p:spPr>
      </p:pic>
      <p:sp>
        <p:nvSpPr>
          <p:cNvPr id="88" name="TextBox 21"/>
          <p:cNvSpPr/>
          <p:nvPr/>
        </p:nvSpPr>
        <p:spPr>
          <a:xfrm>
            <a:off x="5052960" y="351000"/>
            <a:ext cx="2955960" cy="8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spAutoFit/>
          </a:bodyPr>
          <a:p>
            <a:pPr lvl="1" marL="419040" algn="r">
              <a:lnSpc>
                <a:spcPts val="1562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ru-RU" sz="17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ГОСУДАРСТВЕННЫЙ</a:t>
            </a:r>
            <a:br>
              <a:rPr sz="1700"/>
            </a:br>
            <a:r>
              <a:rPr b="1" lang="ru-RU" sz="17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Научный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19040" algn="r">
              <a:lnSpc>
                <a:spcPts val="1562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ru-RU" sz="17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Центр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19040" algn="r">
              <a:lnSpc>
                <a:spcPts val="1562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ru-RU" sz="17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РФ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Прямоугольник 1"/>
          <p:cNvSpPr/>
          <p:nvPr/>
        </p:nvSpPr>
        <p:spPr>
          <a:xfrm>
            <a:off x="704880" y="2550960"/>
            <a:ext cx="8209080" cy="24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кущее состояние БД  по государственным эталонам стран членов МГС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тчет за период  2014-2015 г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о состоянию на 10.04.20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.Ю. Бугае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Номер слайда 3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86CB7-E348-4497-80B9-23D4A8C20E1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2000160" y="15840"/>
            <a:ext cx="5486400" cy="61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Номер слайда 1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113B3-EB5A-4C6D-95E4-D8FB9A79F24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2649600" y="115920"/>
            <a:ext cx="5460840" cy="4654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2505240" y="5229360"/>
            <a:ext cx="6222960" cy="79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Прямой адреса доступа к БД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Номер слайда 1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2913E-C122-40D8-8887-1F54C76643F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Прямоугольник 4"/>
          <p:cNvSpPr/>
          <p:nvPr/>
        </p:nvSpPr>
        <p:spPr>
          <a:xfrm>
            <a:off x="344520" y="3105000"/>
            <a:ext cx="907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</a:t>
            </a:r>
            <a:r>
              <a:rPr b="0" lang="ru-RU" sz="4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://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www</a:t>
            </a:r>
            <a:r>
              <a:rPr b="0" lang="ru-RU" sz="44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gos</a:t>
            </a:r>
            <a:r>
              <a:rPr b="0" lang="ru-RU" sz="44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-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etalon</a:t>
            </a:r>
            <a:r>
              <a:rPr b="0" lang="ru-RU" sz="4400" spc="-1" strike="noStrike" u="sng">
                <a:solidFill>
                  <a:srgbClr val="009999"/>
                </a:solidFill>
                <a:uFillTx/>
                <a:latin typeface="Times New Roman"/>
                <a:hlinkClick r:id="rId8"/>
              </a:rPr>
              <a:t>.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Times New Roman"/>
                <a:hlinkClick r:id="rId9"/>
              </a:rPr>
              <a:t>ru</a:t>
            </a:r>
            <a:r>
              <a:rPr b="0" lang="ru-RU" sz="4400" spc="-1" strike="noStrike" u="sng">
                <a:solidFill>
                  <a:srgbClr val="009999"/>
                </a:solidFill>
                <a:uFillTx/>
                <a:latin typeface="Times New Roman"/>
                <a:hlinkClick r:id="rId10"/>
              </a:rPr>
              <a:t> /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Times New Roman"/>
                <a:hlinkClick r:id="rId11"/>
              </a:rPr>
              <a:t>DB</a:t>
            </a:r>
            <a:r>
              <a:rPr b="0" lang="ru-RU" sz="4400" spc="-1" strike="noStrike" u="sng">
                <a:solidFill>
                  <a:srgbClr val="009999"/>
                </a:solidFill>
                <a:uFillTx/>
                <a:latin typeface="Times New Roman"/>
                <a:hlinkClick r:id="rId12"/>
              </a:rPr>
              <a:t>/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Times New Roman"/>
                <a:hlinkClick r:id="rId13"/>
              </a:rPr>
              <a:t>com</a:t>
            </a:r>
            <a:r>
              <a:rPr b="0" lang="ru-RU" sz="4400" spc="-1" strike="noStrike" u="sng">
                <a:solidFill>
                  <a:srgbClr val="009999"/>
                </a:solidFill>
                <a:uFillTx/>
                <a:latin typeface="Times New Roman"/>
                <a:hlinkClick r:id="rId14"/>
              </a:rPr>
              <a:t>/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Times New Roman"/>
                <a:hlinkClick r:id="rId15"/>
              </a:rPr>
              <a:t>index</a:t>
            </a:r>
            <a:r>
              <a:rPr b="0" lang="ru-RU" sz="4400" spc="-1" strike="noStrike" u="sng">
                <a:solidFill>
                  <a:srgbClr val="009999"/>
                </a:solidFill>
                <a:uFillTx/>
                <a:latin typeface="Times New Roman"/>
                <a:hlinkClick r:id="rId16"/>
              </a:rPr>
              <a:t>.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Times New Roman"/>
                <a:hlinkClick r:id="rId17"/>
              </a:rPr>
              <a:t>htm</a:t>
            </a:r>
            <a:r>
              <a:rPr b="0" lang="ru-RU" sz="4400" spc="-1" strike="noStrike" u="sng">
                <a:solidFill>
                  <a:srgbClr val="009999"/>
                </a:solidFill>
                <a:uFillTx/>
                <a:latin typeface="Times New Roman"/>
                <a:hlinkClick r:id="rId18"/>
              </a:rPr>
              <a:t>?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RU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,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MGS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_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EIU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аза данных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“Реестр государственных эталонов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ран-членов МГС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Номер слайда 1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9153B-8B8C-42D6-8526-C1F3110B639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2073240" y="1790640"/>
            <a:ext cx="6222960" cy="44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Интерфейс доступа к Б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Номер слайда 2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5D35D-4942-4FCD-AD41-3A8E1BFB854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1639800" y="1341360"/>
            <a:ext cx="662616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Пример документа в Интернете доступ к Б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Номер слайда 2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CBFA4-CD9A-4247-A9F1-D0C3C766273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2000160" y="1270080"/>
            <a:ext cx="4381560" cy="55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88520" y="33300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</a:rPr>
              <a:t>Спасибо за внимани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Номер слайда 3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5FFBB-BC8B-45FB-A7BC-45EB2AAC7FA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8T09:28:24Z</dcterms:created>
  <dc:creator>User</dc:creator>
  <dc:description/>
  <dc:language>en-US</dc:language>
  <cp:lastModifiedBy>Пользаватель</cp:lastModifiedBy>
  <dcterms:modified xsi:type="dcterms:W3CDTF">2015-04-21T11:15:39Z</dcterms:modified>
  <cp:revision>58</cp:revision>
  <dc:subject/>
  <dc:title>Слайд 1</dc:title>
</cp:coreProperties>
</file>