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A8F-A6FB-449D-BC1D-11A9192E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378-84D2-491E-813B-8F5BC5FF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B83B9-FAED-43BC-87EE-AC7EE1FB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2589D-A455-4D49-A47E-5E32736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7AD9B-B5C2-4DD5-AEC6-BCF971A6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E9F67-5FC7-4097-88A0-8732E487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A7C87-47A4-4B29-B97F-4F292311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C0069-3AFB-4302-9BD9-9539B1F9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2036D-3B4A-4BBD-BC90-199ACA3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A4BED-B275-4992-938C-999ACD71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883B7-D8BB-463A-A882-093F259E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E0CDE-7843-48CC-B70D-BCA1B019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35F-795E-4C5B-B4C7-04CACFF4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0FB3C-3B52-498B-8D76-ECEFBEC8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EEA5A-74D7-4267-A15B-2AEC9A55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BBCD7-DA2B-4127-9B39-C567D811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D3022-E0A2-44B2-9DCF-BE1A9E72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ACD74-96E3-4F8A-BDD4-1D78DD5E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1CA76-26E7-4BAA-938C-95F2C7D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2BF46-D6F2-4B52-BAA4-1089C1E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7E8E2-D443-4D3A-A870-FEDACC20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39F37-6423-4349-9C64-9C2C7861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A7DD1-294A-42CD-8228-0965DAE0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626-5ED9-4245-9B00-DA9677F2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0794D-43DA-4275-A27A-CE100063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1B714-7168-4A3C-B9B0-D69CFAAA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410ED-4C74-479F-9641-5383506D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C1E0C-D70D-4759-8B21-8E018374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6DAF2-C072-4D82-AB03-83794493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B70E5-5BBC-4305-9359-9CBD071C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869CA-C09A-4AF0-BAF6-1C94CF85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F072E-DFB7-4D92-84F7-4D3B90CE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D7E47-10F4-4C04-A4A2-6723C0DA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64C48-3C8F-4B35-B5C5-904E2F8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BED1-AE31-4D1A-AF89-1462D354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89FEC-8F27-45DB-AE2B-434AB718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12BBE-08D3-47D2-A995-C02A9C27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A2B56-00EC-4CA9-BF8C-B3646DF8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C6EE0-59DE-401F-9F3D-E0DD9E6C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0C15B-59B3-4F11-B078-99D504A0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7564D-6995-49B0-A87C-DB146CFF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3A172-BAED-4C45-AF4F-0CC5934C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11C96-3BCA-4055-AA6C-20C789E4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431EC-5577-45B7-BF88-4064BFF9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77EF1-9276-4679-A639-3AD77B98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CB1A-AD93-472F-8E22-37CE837E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A9C76-2852-4501-B007-6F8695E7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6AFFF-93CB-4A5B-9BA0-71539CBD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7DABF-28D8-449E-AA11-D1E7C2CA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D2230-8A5C-40CA-A8D4-8151CE8B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D7F95-C08F-42CD-8380-4A9528D9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DA6D0-9231-42D7-820F-BBA76AA8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BF054-1136-4333-81E2-84354B0D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4BCC6-424C-42FE-8B66-3B408BFF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E0589-2EFE-40C1-9087-B955D02D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05DD8-BA7C-4C62-B178-6501F178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13E4-710A-482A-9B3F-B9F3972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F906B-2852-4128-9D31-01D9CAB7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914CE-3F93-44BF-BD39-C9A23A0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4231E-9C58-43C5-8AD8-FCCDD191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F67EB-EE87-42E2-B9DE-D8A33DAA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15273-3E48-40C0-AA82-1D01E50B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A45D1-1A35-41B6-B0D8-6FC5C0C3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94629-DD0F-4DB6-A0A7-FE63C734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B471C-F5C1-4FF7-A107-9A087F91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3A59A-CBDF-435C-9706-D9DDF685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B2BD0-10C0-46A4-A000-134BDBDC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02D9-F90F-46A4-8E86-A092DA07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1F5F5-BA2A-4C4A-BA6F-F25EFFCB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46276-2554-4013-B793-7C81B218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437DA-8A0D-42A2-BCC0-8D104BDE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CAFC2-60B3-491C-B09C-BE5D0CFF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6841A-6111-47D3-A414-372E700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BA483-CD41-463F-9424-D451F5D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34F95-6D19-43E6-8948-ECCE015A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CAF7E-A477-4F5F-AD00-50F3C0D6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26C9C-E0CB-4CFF-A48E-6AF1E01E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44C12-BA84-4366-9FD2-993EC2C6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34A7-7E8C-4F01-9D28-6796CD59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CAB7A-943E-4CEB-94A0-26D5C389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E7753-3595-44B1-9052-300B4195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DD94A-5665-4920-89D0-D896F7CF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9B91D-2E72-4CA1-BCA3-0D8F238D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B2E69-BB7E-4C47-B555-0AE8ADB7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8DDE7-408E-413F-ABF8-D78043B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A9EEE-4D69-4E8C-BDD5-14BD89C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46FE4-F979-4052-98E0-D487A2A0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CFB6B-B2AF-4CE4-92A8-028F54F8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54ECA-89D5-408F-9C63-D91F1199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BECB-03FC-4718-BE31-52BA4FEC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6CB19-9413-41FC-9A2C-52DB672A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5D354-0502-45B0-9181-9252B162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63B42-399C-46C1-A144-74030640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F88CE-BAEB-4725-A8D7-1313675B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9E04C-5CD7-4280-9381-E608846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CE9FA-E850-46D6-9EF4-3CF6707D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3B827-F485-45B9-9CC3-41C5A54D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B1234-8E08-45F6-8923-3244B28B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E4216-8477-4479-B62B-117912C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8D0A8-EC53-4641-B009-605133C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20B8-D8DF-4017-806A-B4FF979C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D9498-6E71-4FF4-AFF4-922ACFD5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E280B-006E-4CE5-A7C9-EF7B9F31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3F826-E2F5-4AEE-AAAB-2AB30BCC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4B6-9A7F-457C-8B92-D6B14134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ED59-2E65-4058-8D17-F6A4EE8F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CA13-4B81-49BF-A74F-30B326C7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2F02-7A33-434D-86B6-E4EE8ABA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7571-FA57-4F4B-A4A8-B3233198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397E-8E6A-453E-BB0B-C5810E96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251D-63EB-449C-9F72-F32B5D9F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1895-16B8-4DCA-A882-8F1BB99D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23E4-E587-459F-A207-CC17B076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0339-0099-4973-8190-25459B6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670F-F9D6-48C0-A5E8-40567023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827-E629-420F-9623-F997FAB7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3E40-BBF7-4606-9FFE-2EF3F709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41DD-FC54-4A07-B94C-4FA13CF1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8E6C-40D0-411E-8630-5387EBB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9A4F-CE53-4488-B6C0-B209E5A0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439F5-BAE6-48A8-96CC-65DA8887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6977B-83B1-4AA1-8807-FEA31CDE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2CAF-2EFD-4A53-9A6B-D7F176A6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E816-E03F-44C5-A89F-6F49AA48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9E388-52A8-49BD-9EA6-22E44A01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A3D6B-0DBA-438D-B9AE-CB5E318A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B3B-E786-468F-8B1F-37A683A3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EB04-BAFD-4EEF-BFB9-7762F42C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502D1-3D72-460E-89F2-55A6E669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6745-09B7-4DB3-B5B7-881F59C1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D3C0D-682D-415C-9C32-3B9D3C5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4661-AC5C-4C86-BFC0-524314E0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6C64-AAB6-47ED-A831-D0A67ED8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C204-58BB-4746-9D35-27806618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32C1-B967-48B6-A2C8-90D482F4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E2C6-6AB9-494D-83C4-CC52B41E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48698-D02C-4D26-BC26-B7728C18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787-9C81-41EB-B4F2-0D51DFD2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55972-8782-4ADF-8007-C0339E5F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810D-565B-48DC-8E34-8B7A5B34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CD21-59DB-4E68-A1A1-AB5B92A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807A5-9004-4680-ABFF-4FF65CB2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A0E8-4661-41A9-8CA4-4A1D9A6F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DAD1-8D4C-40CB-AEB8-806019F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B509-EF3C-4607-B72E-00F11CFA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9CD4-00C5-4B45-B3FE-3CD5E9F2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EC6F-0B8F-46EC-8B12-A206F23A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1E32E-D4F4-494F-A95D-8E3198D6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C2C-2035-4C04-BD57-0DF9832A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64B44-ED20-493B-B03B-B0F3DC0F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84F5-BFFB-450F-BAF4-D65A8239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E5389-F6CD-47EC-A5D2-2B4B117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EF2FB-63F4-4841-8D9C-A668E6D9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6D553-5CED-438D-8BA2-E9617D6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2BD1-B33C-46FB-86F9-D7F53A6B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17E29-7BAD-4E50-A467-FE61EBC9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55E66-5D0A-42A6-A1F8-994438A4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C513-573D-43F2-A5A8-349973B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F6E6B-B05E-4CEE-B6BF-D8820EC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0F3-8834-4F1D-A05E-BE025279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A1616-8E27-4E95-88E6-5A7BBBAB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42960-285E-401E-AAD9-A5E826C1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BF97B-1D24-4FD7-A18B-28E37DF9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33226-403A-44D3-B4C0-7E9F65EA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EC358-7003-4F8E-BD27-FBF9FD28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A6716-DF24-4698-9161-19EAF109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D4AFF-4B0B-4FCE-8240-47E66152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5C25A-877E-4D96-AB66-E589A4A0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3B6D-0F40-4A96-8837-834B2957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768B-AFD7-49C3-B8D1-7B012231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1FE-8D6F-44DA-B5D1-2DFEC6C7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C34C-F53B-45ED-BE13-DA96526A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5420C-B292-4B29-B9E2-29F72F88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52A6B-F9C8-463F-935D-1B87F6B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E91A-E61E-4819-807E-87DAF94A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62235-ACCA-40AF-BDB8-CBF14C79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81BE8-EC2B-4B85-AAE9-F4AE59C1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466BB-1E91-41B5-8E9E-5BF13228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246E1-8921-4E58-BAFC-F65AB967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360CC-34DB-4455-AABE-A2CE458C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039B-CA88-42DB-AFBC-A083C553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BD1-B147-4169-9041-8AB1F9E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473CF-FD49-4DBF-91CE-8CE2E8B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A9BA0-4063-469B-AFF2-1E4C3F1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87544-AA00-4DA2-9833-D529596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E9002-C916-4750-B04B-071A669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0D02-64ED-43FA-AB9B-F3AB88B0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09E40-084E-4B27-9703-9E30F60E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474CE-FCCE-4E1B-809E-486B296D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BA433-F18D-4308-8406-A972E096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58378-301C-44B1-982F-BACFBD94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1ED88-CFAE-4538-944A-7A0B821C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109F-75C1-42DE-A779-308ED3B45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9BB6-5569-4BFE-A3FD-57E54D75DE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4C28-704D-4F62-8EAE-741495B88F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79B0-AADE-4431-B260-A4A7E2EB8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6309-50A4-4332-862B-A4D8F806D9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F9E1-708D-4E9F-893D-C142A2B7D9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33E-618B-454C-B91C-F5435D7B09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99FE-5BA1-46E9-92FF-C5F61A6270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FD84-2321-4678-AF03-54F1D3373A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6AB7-D20C-40BD-AF6E-38B61DBB54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650C-51B4-4EC4-BFDC-5B798B227F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AE5D-EF55-4716-9692-D89248D9D0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5B37-D7AB-4CC2-97E1-7F393B97E8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967F-C25A-4779-8528-223FFBA0D1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73E7-88E5-4F74-A6BF-BD40E08946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AB99-DCA3-4EE0-B15F-851A857853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3093-8DCD-4BF7-8E25-55A71C310EC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452520" y="208080"/>
            <a:ext cx="8151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80880" y="2133720"/>
            <a:ext cx="82947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проек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Ы ПО СОЗДАНИЮ И ПРИМЕНЕНИЮ МЕЖГОСУДАРСТВЕННЫХ СТАНДАРТ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ЦОВ СОСТАВА И СВОЙСТВ ВЕЩЕСТВ И МАТЕРИАЛ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2016-2020 Г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Picture 70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148200" cy="85392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3"/>
          <p:cNvSpPr/>
          <p:nvPr/>
        </p:nvSpPr>
        <p:spPr>
          <a:xfrm>
            <a:off x="730080" y="1341360"/>
            <a:ext cx="8151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1-е заседание НТКМет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8-29 апреля 2015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700200" y="5084640"/>
            <a:ext cx="815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филатова О.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дел ГССО ФГУП «УНИИМ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танда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9557-A1C9-4FB7-A5BE-09E9771008E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Прямоугольник 4"/>
          <p:cNvSpPr/>
          <p:nvPr/>
        </p:nvSpPr>
        <p:spPr>
          <a:xfrm>
            <a:off x="555480" y="1341360"/>
            <a:ext cx="84265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соответствии с поручением 46-го заседания МГС (п.15.2.2 протокола) Росстандартом (ФГУП «УНИИМ») подготовлен 1-й проект Программы по созданию и применению межгосударственных стандартных образцов состава и свойств веществ и материалов на 2016-2020 год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Основная цель Программы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овышение метрологического уровня и качества измерений в приоритетных направлениях сотрудничества государств СНГ при добыче и переработке углеводородного сырья, при испытаниях в области энергосбережений и в области наноиндустрии, при испытаниях сельскохозяйственной продукции, объектов окружающей природной среды (почва, воздух, питьевая и сточная воды), стратегически важных объектов (горных пород и материалов, промышленного сырья) и д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250-28DF-4B8B-B9DD-BE717AF6429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Прямоугольник 4"/>
          <p:cNvSpPr/>
          <p:nvPr/>
        </p:nvSpPr>
        <p:spPr>
          <a:xfrm>
            <a:off x="574560" y="981000"/>
            <a:ext cx="842508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Программа разработана в целях координации деятельности национальных органов по реализации межправительственных Соглашений и решений  МГС, относящихся к вопросам метрологического обеспечения единства измерений в государствах - участниках Соглашения, при этом все государства - участники Со-глашения в равной мере воспользуются результатами работ по данной Программ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Учитывая опыт формирования аналогичных Программ по созданию и применению межгосударственных стандартных образцов состава и свойств веществ и материалов с 2002 года,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стоящая Программа традиционно сформирована сроком на 5 л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1-й проект Программы на 2016–2020 годы включен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одтвержденные авторами невыполненные позиции из Программы на 2011-2015 год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, полученные  от Госстандарта Республики Казахстан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 от организаций – разработчиков СО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4AE4-0EEF-45AB-86F3-18C80C846BE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250920" y="279360"/>
            <a:ext cx="87850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Программы по состоянию на 08.04.2015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ет в себя  13 разделов  (57 заданий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 56 позиций – Российская Федерация и 1 позиция – Республика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захст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72880" y="1413000"/>
          <a:ext cx="8577360" cy="4630680"/>
        </p:xfrm>
        <a:graphic>
          <a:graphicData uri="http://schemas.openxmlformats.org/drawingml/2006/table">
            <a:tbl>
              <a:tblPr/>
              <a:tblGrid>
                <a:gridCol w="432000"/>
                <a:gridCol w="6769080"/>
                <a:gridCol w="1376280"/>
              </a:tblGrid>
              <a:tr h="457200">
                <a:tc>
                  <a:txBody>
                    <a:bodyPr lIns="58680" rIns="58680" tIns="0" bIns="0" anchor="ctr">
                      <a:noAutofit/>
                    </a:bodyPr>
                    <a:p>
                      <a:pPr marL="144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marL="20520" indent="-205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ое количество типов М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и свойств углеводородного сыр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области энергосбере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области атомной энергетики и атомно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сфере наноиндуст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сельскохозяйственной продукции и материалов естественного происхо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пищево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4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поч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газов и газовых смес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растворов ионов металлов и неметаллов, органических веществ и их раство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КАЗ) + 3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минерального сырья, горных пород, руд и продуктов их перерабо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4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металлов и сплав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войств веществ и материал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32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сфере здравоохранения и клинической 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E2ED-BA9E-4C05-8505-0AE2E636542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Прямоугольник 4"/>
          <p:cNvSpPr/>
          <p:nvPr/>
        </p:nvSpPr>
        <p:spPr>
          <a:xfrm>
            <a:off x="395280" y="765000"/>
            <a:ext cx="8424720" cy="81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выполнении заданий Программы предполагается участие ведущих научно-исследовательских организаций и предприятий государств - участников Программ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еспублика Казахст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осточно-Казахстанский филиал РГП «КазИнМетр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Усть-Каменогор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оссийская Федерация: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НИИМС», г.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НИИМ им. Д.И. Менделеева»,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УНИИМ», Екатерин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ИАМ»,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С филиал ФГУП «ВНИИФТРИ», Иркут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БНУ «ВНИИПД»,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НИЦПВ»,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Красцветмет», Краснояр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ЕЗ ОЦМ», Екатерин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ЗАО «Сибтехнология», Тюмен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АО «УЭХК», Новоураль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НПП«Геологоразведка», г. Санкт-Петербур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526D-04DC-447D-85DD-AC6DE46C64A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Прямоугольник 4"/>
          <p:cNvSpPr/>
          <p:nvPr/>
        </p:nvSpPr>
        <p:spPr>
          <a:xfrm>
            <a:off x="574560" y="981000"/>
            <a:ext cx="78850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Разработка и применение  МСО позволит  обеспечить развитие ряда  Соглашений  СНГ;  будет способствовать устранению технических барьеров и качественному выполнению торгово-расчетных операций; обеспечит достоверный анализ ценовых и качественных параметров экспортируемых и импортируемых товаров (сырья, продуктов питания, нефтяной и химической продукции и т.п.); обеспечит качественный уровень оценки экологической обстановки; повышение качества продуктов питания и продовольственного сырья, обеспечит единство измерений в области энергосбережения, атомной промышленности, в сфере производства и потребления нанопродукции и в сфере здравоохранения и клинической диагности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0E56-BF55-494C-9C5E-8D11AD486FA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Прямоугольник 4"/>
          <p:cNvSpPr/>
          <p:nvPr/>
        </p:nvSpPr>
        <p:spPr>
          <a:xfrm>
            <a:off x="755640" y="2637000"/>
            <a:ext cx="788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8:38:26Z</dcterms:created>
  <dc:creator>Лаб.253</dc:creator>
  <dc:description/>
  <dc:language>en-US</dc:language>
  <cp:lastModifiedBy>Salim</cp:lastModifiedBy>
  <cp:lastPrinted>2015-04-27T12:58:33Z</cp:lastPrinted>
  <dcterms:modified xsi:type="dcterms:W3CDTF">2015-04-29T05:12:06Z</dcterms:modified>
  <cp:revision>157</cp:revision>
  <dc:subject/>
  <dc:title>Государственная система обеспечения единства измерений ТЕРМИНЫ И ОПРЕДЕЛЕНИЯ, ИСПОЛЬЗУЕМЫЕ В ОБЛАСТИ СТАНДАРТНЫХ ОБРАЗЦОВ ISO Guide 30:1992 Terms and definitions used in connection with reference materials  (MOD)  ГОСТ  Руководство ИСО 30:1992, Изменение 1:2008 (проект, RU, первая редакция)</dc:title>
</cp:coreProperties>
</file>