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5DCE-C54A-4CEE-9D64-F88AC3AA5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22B1-AA20-4144-AD20-3C6B0FCC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F882-F264-4165-854A-5A8D41D94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DDEA-59F2-4655-8CDE-A70A833FD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F85E-21A0-44A4-A247-ED1B7F167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9BCFE-C204-4316-854B-E995EE77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94D3-0EBE-41E5-B485-3A9F947B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05FC-6A12-430E-8CF5-DA17DCF2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CF8F-B90C-4005-8080-1E285324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C963-D112-4B88-9C61-F43B4AD0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4B47-A411-4317-8E3F-D528B1AF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BBE7-127F-4AB6-BE3D-A9E64F1E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CB7A0-5190-4631-932C-1BE0D1E1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E315-D024-48F9-8793-FC73E834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5D42-F0B2-4BCD-9AA2-8D7C5E47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098B-57E6-44A6-B8DA-1AE0ECDE0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4001-57A5-4AC9-9559-2412F1BC4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ED85-9C33-4D1B-A43B-439BBD0A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4585-2BC3-4B1C-B81A-F718B857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1020-728F-494C-89C8-CA54D804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149D-216B-41F0-ADA9-FD0E9A5E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3484-46D6-47E9-9D73-D3789543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FD58-DD3F-4E8E-B97E-99132981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F4CE-8C86-4E60-AF28-ED2C7D86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ack_"/>
          <p:cNvPicPr/>
          <p:nvPr/>
        </p:nvPicPr>
        <p:blipFill>
          <a:blip r:embed="rId2"/>
          <a:stretch/>
        </p:blipFill>
        <p:spPr>
          <a:xfrm>
            <a:off x="-4680" y="-3240"/>
            <a:ext cx="991692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4803-ABC9-41F7-8596-C4BFA73E717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3D72-9B66-4D3C-8FE6-4A4AE34320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E66A-C55A-471F-9CF1-B1EA2D08522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24D9-4577-4A51-960B-D3CD83814B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s-etalon.ru/DB/com/index.htm?RU,MGS_EIU" TargetMode="External"/><Relationship Id="rId2" Type="http://schemas.openxmlformats.org/officeDocument/2006/relationships/hyperlink" Target="http://www.gos-etalon.ru/DB/com/index.htm?RU,MGS_EIU" TargetMode="External"/><Relationship Id="rId3" Type="http://schemas.openxmlformats.org/officeDocument/2006/relationships/hyperlink" Target="http://www.gos-etalon.ru/DB/com/index.htm?RU,MGS_EIU" TargetMode="External"/><Relationship Id="rId4" Type="http://schemas.openxmlformats.org/officeDocument/2006/relationships/hyperlink" Target="http://www.gos-etalon.ru/DB/com/index.htm?RU,MGS_EIU" TargetMode="External"/><Relationship Id="rId5" Type="http://schemas.openxmlformats.org/officeDocument/2006/relationships/hyperlink" Target="http://www.gos-etalon.ru/DB/com/index.htm?RU,MGS_EIU" TargetMode="External"/><Relationship Id="rId6" Type="http://schemas.openxmlformats.org/officeDocument/2006/relationships/hyperlink" Target="http://www.gos-etalon.ru/DB/com/index.htm?RU,MGS_EIU" TargetMode="External"/><Relationship Id="rId7" Type="http://schemas.openxmlformats.org/officeDocument/2006/relationships/hyperlink" Target="http://www.gos-etalon.ru/DB/com/index.htm?RU,MGS_EIU" TargetMode="External"/><Relationship Id="rId8" Type="http://schemas.openxmlformats.org/officeDocument/2006/relationships/hyperlink" Target="http://www.gos-etalon.ru/DB/com/index.htm?RU,MGS_EIU" TargetMode="External"/><Relationship Id="rId9" Type="http://schemas.openxmlformats.org/officeDocument/2006/relationships/hyperlink" Target="http://www.gos-etalon.ru/DB/com/index.htm?RU,MGS_EIU" TargetMode="External"/><Relationship Id="rId10" Type="http://schemas.openxmlformats.org/officeDocument/2006/relationships/hyperlink" Target="http://www.gos-etalon.ru/DB/com/index.htm?RU,MGS_EIU" TargetMode="External"/><Relationship Id="rId11" Type="http://schemas.openxmlformats.org/officeDocument/2006/relationships/hyperlink" Target="http://www.gos-etalon.ru/DB/com/index.htm?RU,MGS_EIU" TargetMode="External"/><Relationship Id="rId12" Type="http://schemas.openxmlformats.org/officeDocument/2006/relationships/hyperlink" Target="http://www.gos-etalon.ru/DB/com/index.htm?RU,MGS_EIU" TargetMode="External"/><Relationship Id="rId13" Type="http://schemas.openxmlformats.org/officeDocument/2006/relationships/hyperlink" Target="http://www.gos-etalon.ru/DB/com/index.htm?RU,MGS_EIU" TargetMode="External"/><Relationship Id="rId14" Type="http://schemas.openxmlformats.org/officeDocument/2006/relationships/hyperlink" Target="http://www.gos-etalon.ru/DB/com/index.htm?RU,MGS_EIU" TargetMode="External"/><Relationship Id="rId15" Type="http://schemas.openxmlformats.org/officeDocument/2006/relationships/hyperlink" Target="http://www.gos-etalon.ru/DB/com/index.htm?RU,MGS_EIU" TargetMode="External"/><Relationship Id="rId16" Type="http://schemas.openxmlformats.org/officeDocument/2006/relationships/hyperlink" Target="http://www.gos-etalon.ru/DB/com/index.htm?RU,MGS_EIU" TargetMode="External"/><Relationship Id="rId17" Type="http://schemas.openxmlformats.org/officeDocument/2006/relationships/hyperlink" Target="http://www.gos-etalon.ru/DB/com/index.htm?RU,MGS_EIU" TargetMode="External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2680" y="230796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uuu1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20"/>
          <p:cNvSpPr/>
          <p:nvPr/>
        </p:nvSpPr>
        <p:spPr>
          <a:xfrm>
            <a:off x="3243240" y="1465200"/>
            <a:ext cx="615492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ru-RU" sz="17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ФГУП «Всероссийский научно-исследовательский институт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ru-RU" sz="17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физико-технических  и радиотехнических измерений»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9" descr=""/>
          <p:cNvPicPr/>
          <p:nvPr/>
        </p:nvPicPr>
        <p:blipFill>
          <a:blip r:embed="rId2"/>
          <a:stretch/>
        </p:blipFill>
        <p:spPr>
          <a:xfrm>
            <a:off x="8272440" y="210960"/>
            <a:ext cx="995400" cy="949680"/>
          </a:xfrm>
          <a:prstGeom prst="rect">
            <a:avLst/>
          </a:prstGeom>
          <a:ln w="0">
            <a:noFill/>
          </a:ln>
        </p:spPr>
      </p:pic>
      <p:sp>
        <p:nvSpPr>
          <p:cNvPr id="88" name="TextBox 21"/>
          <p:cNvSpPr/>
          <p:nvPr/>
        </p:nvSpPr>
        <p:spPr>
          <a:xfrm>
            <a:off x="5052960" y="351000"/>
            <a:ext cx="295596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 lvl="1" marL="419040" algn="r">
              <a:lnSpc>
                <a:spcPts val="1562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ru-RU" sz="17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ГОСУДАРСТВЕННЫЙ</a:t>
            </a:r>
            <a:br>
              <a:rPr sz="1700"/>
            </a:br>
            <a:r>
              <a:rPr b="1" lang="ru-RU" sz="17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Научный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19040" algn="r">
              <a:lnSpc>
                <a:spcPts val="1562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ru-RU" sz="17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Центр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19040" algn="r">
              <a:lnSpc>
                <a:spcPts val="1562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ru-RU" sz="17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РФ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Прямоугольник 1"/>
          <p:cNvSpPr/>
          <p:nvPr/>
        </p:nvSpPr>
        <p:spPr>
          <a:xfrm>
            <a:off x="704880" y="2550960"/>
            <a:ext cx="820908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кущее состояние БД  по государственным эталонам стран членов МГС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тчет за период  2014-2015 г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 состоянию на 20.10.20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.Ю. Бугае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88520" y="33300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Спасибо за внимани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D0F2-1DDB-4A3F-97A2-67CE0DA0BC1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620E-C69C-4BC0-8B9E-777228D1F9E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2205000" y="14400"/>
            <a:ext cx="549612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ADAA-E4F4-41A1-85D2-1220F6EA52B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2505240" y="5229360"/>
            <a:ext cx="6222960" cy="793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2576520" y="189000"/>
            <a:ext cx="546084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рямой адреса доступа к БД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57FB-2882-43AD-9EE1-291658B8651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344520" y="3105000"/>
            <a:ext cx="907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://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www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.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gos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-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etalon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.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/>
              </a:rPr>
              <a:t>ru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/>
              </a:rPr>
              <a:t> /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1"/>
              </a:rPr>
              <a:t>DB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2"/>
              </a:rPr>
              <a:t>/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3"/>
              </a:rPr>
              <a:t>com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4"/>
              </a:rPr>
              <a:t>/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5"/>
              </a:rPr>
              <a:t>index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6"/>
              </a:rPr>
              <a:t>.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7"/>
              </a:rPr>
              <a:t>htm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?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U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GS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IU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за данных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“Реестр государственных эталонов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ан-членов МГС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1AEB-86E6-4EB6-8B4D-0D2FD346E8B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920880" y="1773360"/>
            <a:ext cx="81356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Динамика эталонной базы по годам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Номер слайда 2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83DD-3814-4AFD-B2CD-6B6BF7FEC56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415800" y="1484280"/>
            <a:ext cx="9001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Распределение эталонов по странам и годам представ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Номер слайда 2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7157-3BB5-49B2-92BF-3E2638158DE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Диаграмма 4" descr=""/>
          <p:cNvPicPr/>
          <p:nvPr/>
        </p:nvPicPr>
        <p:blipFill>
          <a:blip r:embed="rId1"/>
          <a:stretch/>
        </p:blipFill>
        <p:spPr>
          <a:xfrm>
            <a:off x="487440" y="1487520"/>
            <a:ext cx="893124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Интерфейс доступа к Б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Номер слайда 2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B430-8CAE-44CE-9299-8D13F1E98EC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1928880" y="1197000"/>
            <a:ext cx="62164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Пример документа в Интернете доступ к Б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Номер слайда 2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B088-2DE2-442E-913C-D3FE3C6364F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1712880" y="1123920"/>
            <a:ext cx="6222960" cy="57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09:28:24Z</dcterms:created>
  <dc:creator>User</dc:creator>
  <dc:description/>
  <dc:language>en-US</dc:language>
  <cp:lastModifiedBy>Пользаватель</cp:lastModifiedBy>
  <cp:lastPrinted>2015-10-23T12:01:44Z</cp:lastPrinted>
  <dcterms:modified xsi:type="dcterms:W3CDTF">2015-10-23T12:06:59Z</dcterms:modified>
  <cp:revision>61</cp:revision>
  <dc:subject/>
  <dc:title>Слайд 1</dc:title>
</cp:coreProperties>
</file>