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204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курс «Лучший менеджер по качеству» 2010 год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2"/>
          <p:cNvSpPr/>
          <p:nvPr/>
        </p:nvSpPr>
        <p:spPr>
          <a:xfrm>
            <a:off x="0" y="0"/>
            <a:ext cx="9144000" cy="598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0" y="6583320"/>
            <a:ext cx="91440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682560" y="509760"/>
            <a:ext cx="846144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" name="Picture 15" descr="Рисунок4"/>
          <p:cNvPicPr/>
          <p:nvPr/>
        </p:nvPicPr>
        <p:blipFill>
          <a:blip r:embed="rId2"/>
          <a:stretch/>
        </p:blipFill>
        <p:spPr>
          <a:xfrm>
            <a:off x="47520" y="55440"/>
            <a:ext cx="690840" cy="4827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0" y="65786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66"/>
                </a:solidFill>
                <a:latin typeface="Arial"/>
              </a:rPr>
              <a:t>Г О С У Д А Р С Т В Е Н Н Ы Й    К О М И Т Е Т    П О   С Т А Н Д А Р Т И З А Ц И И    Р Е С П У Б Л И К И    Б Е Л А Р У С Ь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Line 17"/>
          <p:cNvSpPr/>
          <p:nvPr/>
        </p:nvSpPr>
        <p:spPr>
          <a:xfrm>
            <a:off x="0" y="6576840"/>
            <a:ext cx="914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9144000" cy="4705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498680"/>
            <a:ext cx="914400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сновные направления и механизмы устранения технических барьеров в торговле</a:t>
            </a:r>
            <a:endParaRPr b="0" lang="en-US" sz="3600" spc="-1" strike="noStrike">
              <a:solidFill>
                <a:srgbClr val="242852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0760" y="4827240"/>
            <a:ext cx="8453520" cy="15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  <a:ea typeface="Arial"/>
              </a:rPr>
              <a:t>Осмола И.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Директор Научно-производственного республиканского унитарного предприятия «Белорусский государственный институт стандартизации и сертификации»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6" name="Picture 15" descr="Рисунок4"/>
          <p:cNvPicPr/>
          <p:nvPr/>
        </p:nvPicPr>
        <p:blipFill>
          <a:blip r:embed="rId1"/>
          <a:stretch/>
        </p:blipFill>
        <p:spPr>
          <a:xfrm>
            <a:off x="3876840" y="303120"/>
            <a:ext cx="12571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0"/>
          <p:cNvSpPr/>
          <p:nvPr/>
        </p:nvSpPr>
        <p:spPr>
          <a:xfrm>
            <a:off x="-289080" y="479520"/>
            <a:ext cx="993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СНИЖЕНИЕ ТЕХНИЧЕСКИХ БАРЬЕРОВ В ТОРГОВЛЕ В РАМКАХ СН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Прямоугольник 1"/>
          <p:cNvSpPr/>
          <p:nvPr/>
        </p:nvSpPr>
        <p:spPr>
          <a:xfrm>
            <a:off x="7751880" y="990720"/>
            <a:ext cx="1162080" cy="24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  <a:ea typeface="Arial"/>
              </a:rPr>
              <a:t>предложение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722680" y="4387680"/>
            <a:ext cx="3646440" cy="98928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  <a:ea typeface="Arial"/>
              </a:rPr>
              <a:t>Сертификация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  <a:ea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Arial"/>
                <a:ea typeface="Arial"/>
              </a:rPr>
              <a:t>декларирование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  <a:ea typeface="Arial"/>
              </a:rPr>
              <a:t>на соответствие требованиям ГОСТ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339920" y="1930320"/>
            <a:ext cx="6411960" cy="505080"/>
          </a:xfrm>
          <a:prstGeom prst="rect">
            <a:avLst/>
          </a:prstGeom>
          <a:noFill/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a6b"/>
                </a:solidFill>
                <a:latin typeface="Arial"/>
                <a:ea typeface="Arial"/>
              </a:rPr>
              <a:t>Объекты, для которых необходимо снижение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a6b"/>
                </a:solidFill>
                <a:latin typeface="Arial"/>
                <a:ea typeface="Arial"/>
              </a:rPr>
              <a:t>технических барьеров в торговл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2951280" y="5411880"/>
            <a:ext cx="325116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a6b"/>
                </a:solidFill>
                <a:latin typeface="Arial"/>
                <a:ea typeface="Arial"/>
              </a:rPr>
              <a:t>Знак допуска на рынок СНГ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63560" y="2455920"/>
            <a:ext cx="5764320" cy="4460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Перечень ГОСТ, обязательных для применения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285840" y="6029280"/>
            <a:ext cx="85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Свободное обращение продукции в рамках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AutoShape 21"/>
          <p:cNvSpPr/>
          <p:nvPr/>
        </p:nvSpPr>
        <p:spPr>
          <a:xfrm>
            <a:off x="4367160" y="4132440"/>
            <a:ext cx="344520" cy="237960"/>
          </a:xfrm>
          <a:prstGeom prst="downArrow">
            <a:avLst>
              <a:gd name="adj1" fmla="val 56361"/>
              <a:gd name="adj2" fmla="val 72222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AutoShape 9"/>
          <p:cNvSpPr/>
          <p:nvPr/>
        </p:nvSpPr>
        <p:spPr>
          <a:xfrm rot="5400000">
            <a:off x="4474800" y="5759280"/>
            <a:ext cx="258840" cy="519120"/>
          </a:xfrm>
          <a:custGeom>
            <a:avLst/>
            <a:gdLst>
              <a:gd name="textAreaLeft" fmla="*/ 40320 w 258840"/>
              <a:gd name="textAreaRight" fmla="*/ 226800 w 258840"/>
              <a:gd name="textAreaTop" fmla="*/ 129600 h 519120"/>
              <a:gd name="textAreaBottom" fmla="*/ 389520 h 519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14360" y="1204920"/>
            <a:ext cx="826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c1d22"/>
                </a:solidFill>
                <a:latin typeface="Arial"/>
                <a:ea typeface="Arial"/>
              </a:rPr>
              <a:t>Разработка Соглашения об устранении технических барьеров в торговле в рамках СНГ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Прямоугольник 1"/>
          <p:cNvSpPr/>
          <p:nvPr/>
        </p:nvSpPr>
        <p:spPr>
          <a:xfrm>
            <a:off x="3517920" y="2906640"/>
            <a:ext cx="1995480" cy="30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Arial"/>
              </a:rPr>
              <a:t>Преимущества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654200" y="3419640"/>
            <a:ext cx="2523960" cy="67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Не создаем новых видов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документов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940280" y="3422520"/>
            <a:ext cx="3392640" cy="71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Усиление роли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межгосударственной стандартизации</a:t>
            </a:r>
            <a:r>
              <a:rPr b="1" lang="en-US" sz="1200" spc="-1" strike="noStrike">
                <a:solidFill>
                  <a:srgbClr val="003a6b"/>
                </a:solidFill>
                <a:latin typeface="Arial"/>
                <a:ea typeface="Arial"/>
              </a:rPr>
              <a:t> --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сосредоточение усилий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на разработке ГОСТ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Стрелка вниз 16"/>
          <p:cNvSpPr/>
          <p:nvPr/>
        </p:nvSpPr>
        <p:spPr>
          <a:xfrm flipH="1" rot="2925600">
            <a:off x="3317040" y="3205440"/>
            <a:ext cx="235080" cy="21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Стрелка вниз 17"/>
          <p:cNvSpPr/>
          <p:nvPr/>
        </p:nvSpPr>
        <p:spPr>
          <a:xfrm flipH="1" rot="19104600">
            <a:off x="5506200" y="3200400"/>
            <a:ext cx="222480" cy="225000"/>
          </a:xfrm>
          <a:prstGeom prst="downArrow">
            <a:avLst>
              <a:gd name="adj1" fmla="val 50000"/>
              <a:gd name="adj2" fmla="val 49854"/>
            </a:avLst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A275-7E13-4606-8B64-398E36AE770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727200" y="654120"/>
            <a:ext cx="777240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СОГЛАШЕНИЕ ОБ УСТРАНЕНИ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  <a:ea typeface="Arial"/>
              </a:rPr>
              <a:t>ТЕХНИЧЕСКИХ БАРЬЕРОВ В ТОРГОВЛ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196920" y="1521000"/>
            <a:ext cx="87598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3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становление статуса межгосударственных стандартов для устранения технических барьеров в торговл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3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становление в межгосударственных стандартах обязательных требовани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3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идание обязательности выполнения требований отдельных межгосударственных стандарт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3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ирование единых правил подтверждения соответств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3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становление основных условий аккредитаци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3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ирование механизма признания подтверждения соответств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301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Единый знак допуска на рынок СН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345E-E79D-40B3-B6D9-C1F3BD6FE5E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441360" y="2589120"/>
            <a:ext cx="836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cc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47296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A1DA-AF5C-495E-AA53-B0B019B293E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506520" y="498600"/>
            <a:ext cx="84614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ТЕХНИЧЕСКИЕ  БАРЬЕРЫ  В  ТОРГОВЛЕ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  СОДРУЖЕСТВЕ  НЕЗАВИСИМЫХ  ГОСУДАРСТ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444600" y="4768920"/>
            <a:ext cx="783576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  <a:ea typeface="Arial"/>
              </a:rPr>
              <a:t>Причин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144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различный научно-технический уровень национальных экономик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144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пециализация национальных экономик в определенных отраслях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народного хозяйств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1144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нятие мер по ограничению допуска на рынки продукции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зарубежных стран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508120" y="4265640"/>
            <a:ext cx="41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alibri"/>
                <a:ea typeface="Arial"/>
              </a:rPr>
              <a:t>Создание  дополнительных  технических барьеров в торговл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Правая фигурная скобка 6"/>
          <p:cNvSpPr/>
          <p:nvPr/>
        </p:nvSpPr>
        <p:spPr>
          <a:xfrm rot="5400000">
            <a:off x="4371480" y="1293480"/>
            <a:ext cx="333360" cy="5651640"/>
          </a:xfrm>
          <a:custGeom>
            <a:avLst/>
            <a:gdLst>
              <a:gd name="textAreaLeft" fmla="*/ 0 w 333360"/>
              <a:gd name="textAreaRight" fmla="*/ 120240 w 333360"/>
              <a:gd name="textAreaTop" fmla="*/ 43920 h 5651640"/>
              <a:gd name="textAreaBottom" fmla="*/ 5607720 h 565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39"/>
                </a:cubicBezTo>
                <a:lnTo>
                  <a:pt x="10800" y="10261"/>
                </a:lnTo>
                <a:cubicBezTo>
                  <a:pt x="10800" y="10531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39"/>
                </a:cubicBezTo>
                <a:lnTo>
                  <a:pt x="10800" y="21061"/>
                </a:lnTo>
                <a:cubicBezTo>
                  <a:pt x="10800" y="2133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29d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415800" y="2816280"/>
            <a:ext cx="2519640" cy="7682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разные объекты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технического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регулирования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6319800" y="2816280"/>
            <a:ext cx="2298600" cy="7682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разные формы оценки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соответствия объектов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511440" y="2816280"/>
            <a:ext cx="2301840" cy="7682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разные требования </a:t>
            </a:r>
            <a:br>
              <a:rPr sz="1500"/>
            </a:b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к объектам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Стрелка вниз 10"/>
          <p:cNvSpPr/>
          <p:nvPr/>
        </p:nvSpPr>
        <p:spPr>
          <a:xfrm flipH="1" rot="2925600">
            <a:off x="2035800" y="2217960"/>
            <a:ext cx="466920" cy="433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Стрелка вниз 11"/>
          <p:cNvSpPr/>
          <p:nvPr/>
        </p:nvSpPr>
        <p:spPr>
          <a:xfrm flipH="1">
            <a:off x="4448160" y="2262240"/>
            <a:ext cx="455760" cy="419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Стрелка вниз 12"/>
          <p:cNvSpPr/>
          <p:nvPr/>
        </p:nvSpPr>
        <p:spPr>
          <a:xfrm flipH="1" rot="19104600">
            <a:off x="7074000" y="2231640"/>
            <a:ext cx="444240" cy="4507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629dd1"/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57" name="TextBox 13"/>
          <p:cNvGrpSpPr/>
          <p:nvPr/>
        </p:nvGrpSpPr>
        <p:grpSpPr>
          <a:xfrm>
            <a:off x="2152800" y="1511280"/>
            <a:ext cx="5083200" cy="793800"/>
            <a:chOff x="2152800" y="1511280"/>
            <a:chExt cx="5083200" cy="793800"/>
          </a:xfrm>
        </p:grpSpPr>
        <p:pic>
          <p:nvPicPr>
            <p:cNvPr id="58" name="TextBox 13" descr=""/>
            <p:cNvPicPr/>
            <p:nvPr/>
          </p:nvPicPr>
          <p:blipFill>
            <a:blip r:embed="rId1"/>
            <a:stretch/>
          </p:blipFill>
          <p:spPr>
            <a:xfrm>
              <a:off x="2152800" y="1511280"/>
              <a:ext cx="508320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212920" y="1563840"/>
              <a:ext cx="49611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2f2f2"/>
                  </a:solidFill>
                  <a:latin typeface="Calibri"/>
                  <a:ea typeface="Arial"/>
                </a:rPr>
                <a:t>Формирование национальных систем технического регулирования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0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AD6A-6829-4F87-8D84-3F11C481DED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2882880"/>
            <a:ext cx="911556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именение стандартов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"ГОСТ" в качестве межгосударственных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инятие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общих правил проведения работ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 стандартизации, метрологии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и сертификац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установление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единых обязательных требований к продукции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(услугам)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еспечивающих их безопасность для жизни и здоровья человека, охрану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окружающей среды, совместимость и взаимозаменяемость, а также</a:t>
            </a:r>
            <a:br>
              <a:rPr sz="1800"/>
            </a:b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единых методов испытаний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8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ка,  издание и распространение межгосударственных стандартов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 других нормативных документов по стандартизации, метрологии и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ертификации, представляющих межгосударственный интерес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-28440" y="614520"/>
            <a:ext cx="9144000" cy="12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СОГЛАШЕНИЕ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о проведении согласованной политики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 в области стандартизации, метрологии и сертификации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Calibri"/>
                <a:ea typeface="Arial"/>
              </a:rPr>
              <a:t>(г. Москва, 13 марта 1992 года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28520" y="202104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Цель: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Принятие общих правил проведения работ по стандартизации,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            метрологии, сертификации и аккредитации, представляющих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            межгосударственный интерес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145A-E051-4204-89BD-9497002F2EF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0"/>
          <p:cNvSpPr/>
          <p:nvPr/>
        </p:nvSpPr>
        <p:spPr>
          <a:xfrm>
            <a:off x="212760" y="647640"/>
            <a:ext cx="8793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ТРАТЕГИЯ РАЗВИТИЯ МГС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НА ПЕРИОД ДО 2020 ГОД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108000" y="1830240"/>
            <a:ext cx="871380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Гармонизация национальных технических регламентов государств-участников СНГ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Укрепление роли межгосударственной стандартизации в мировом экономическом пространств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овершенствование межгосударственной стандартизации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одействие применению межгосударственных стандартов в качестве доказательной базы выполнения национальных технических регламентов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еспечение устойчивого финансирования межгосударственной стандартизац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BD2F-AABB-4E66-865F-1F410C879EA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2762280" y="1111320"/>
            <a:ext cx="356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Calibri"/>
                <a:ea typeface="Arial"/>
              </a:rPr>
              <a:t>Стратегические цели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108000" y="4808520"/>
            <a:ext cx="87739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Гармонизация законодательства государств-участников СНГ в области подтверждения соответствия в соответствии с международными подходам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еспечение идентичности правил и процедур подтверждения соответствия продукци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вышение качества и конкурентно способности производимой в государствах-участниках СНГ продукции и услуг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212760" y="1430280"/>
            <a:ext cx="7350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800000"/>
                </a:solidFill>
                <a:latin typeface="Calibri"/>
                <a:ea typeface="Arial"/>
              </a:rPr>
              <a:t>Техническое нормирование и стандартизация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212760" y="4446720"/>
            <a:ext cx="7350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800000"/>
                </a:solidFill>
                <a:latin typeface="Calibri"/>
                <a:ea typeface="Arial"/>
              </a:rPr>
              <a:t>Подтверждение соответствия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0"/>
          <p:cNvSpPr/>
          <p:nvPr/>
        </p:nvSpPr>
        <p:spPr>
          <a:xfrm>
            <a:off x="212760" y="617400"/>
            <a:ext cx="8793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ТРАТЕГИЯ РАЗВИТИЯ МГС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НА ПЕРИОД ДО 2020 ГОД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68120" y="1773360"/>
            <a:ext cx="888228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Совершенствование и гармонизация нормативно-правовых актов в области метрологии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Развитие межгосударственной системы испытаний и утверждения типа средств измерений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Развитие межгосударственной системы признания методик выполнения измерений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Совершенствование и повышение качества эталонов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Совершенствование системы обеспечения единства измерений 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Повышение эффективности метрологического контроля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51E0-D3DC-4012-A117-2A22147F87C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2832120" y="1081080"/>
            <a:ext cx="35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Calibri"/>
                <a:ea typeface="Arial"/>
              </a:rPr>
              <a:t>Стратегические цели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212760" y="1454040"/>
            <a:ext cx="7350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800000"/>
                </a:solidFill>
                <a:latin typeface="Calibri"/>
                <a:ea typeface="Arial"/>
              </a:rPr>
              <a:t>Обеспечение единства измерений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Прямоугольник 1"/>
          <p:cNvSpPr/>
          <p:nvPr/>
        </p:nvSpPr>
        <p:spPr>
          <a:xfrm>
            <a:off x="212760" y="4443480"/>
            <a:ext cx="863928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Создание механизма взаимного признания результатов работ по аккредитации государствами-участниками СНГ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Создание региональной организации по аккредитации государств-участников СНГ, признанной международными организациями по аккредитаци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241200" y="4132440"/>
            <a:ext cx="2138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800000"/>
                </a:solidFill>
                <a:latin typeface="Calibri"/>
                <a:ea typeface="Arial"/>
              </a:rPr>
              <a:t>Аккредитация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241200" y="6091200"/>
            <a:ext cx="7775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"/>
                <a:ea typeface="Arial"/>
              </a:rPr>
              <a:t>Совершенствование системы надзора и контроля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Прямоугольник 9"/>
          <p:cNvSpPr/>
          <p:nvPr/>
        </p:nvSpPr>
        <p:spPr>
          <a:xfrm>
            <a:off x="236520" y="5784840"/>
            <a:ext cx="5475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800000"/>
                </a:solidFill>
                <a:latin typeface="Calibri"/>
                <a:ea typeface="Arial"/>
              </a:rPr>
              <a:t>Государственный надзор (контроль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5088240" y="2489040"/>
            <a:ext cx="3087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Arial"/>
                <a:ea typeface="Arial"/>
              </a:rPr>
              <a:t>Разработка  </a:t>
            </a:r>
            <a:br>
              <a:rPr sz="1700"/>
            </a:br>
            <a:r>
              <a:rPr b="1" lang="ru-RU" sz="1700" spc="-1" strike="noStrike">
                <a:solidFill>
                  <a:srgbClr val="0070c0"/>
                </a:solidFill>
                <a:latin typeface="Arial"/>
                <a:ea typeface="Arial"/>
              </a:rPr>
              <a:t>национальных стандартов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82" name="Группа 9"/>
          <p:cNvGrpSpPr/>
          <p:nvPr/>
        </p:nvGrpSpPr>
        <p:grpSpPr>
          <a:xfrm>
            <a:off x="4494240" y="3498840"/>
            <a:ext cx="4516560" cy="2607480"/>
            <a:chOff x="4494240" y="3498840"/>
            <a:chExt cx="4516560" cy="2607480"/>
          </a:xfrm>
        </p:grpSpPr>
        <p:sp>
          <p:nvSpPr>
            <p:cNvPr id="83" name="Овал 10"/>
            <p:cNvSpPr/>
            <p:nvPr/>
          </p:nvSpPr>
          <p:spPr>
            <a:xfrm>
              <a:off x="4917960" y="3743280"/>
              <a:ext cx="3583080" cy="2175120"/>
            </a:xfrm>
            <a:prstGeom prst="ellipse">
              <a:avLst/>
            </a:prstGeom>
            <a:noFill/>
            <a:ln w="12600">
              <a:solidFill>
                <a:srgbClr val="4672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4" name="TextBox 5"/>
            <p:cNvSpPr/>
            <p:nvPr/>
          </p:nvSpPr>
          <p:spPr>
            <a:xfrm>
              <a:off x="6208920" y="3498840"/>
              <a:ext cx="847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19916 </a:t>
              </a:r>
              <a:br>
                <a:rPr sz="1600"/>
              </a:b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ГОСТ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" name="TextBox 6"/>
            <p:cNvSpPr/>
            <p:nvPr/>
          </p:nvSpPr>
          <p:spPr>
            <a:xfrm>
              <a:off x="4494240" y="4512960"/>
              <a:ext cx="8460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4963</a:t>
              </a:r>
              <a:br>
                <a:rPr sz="1600"/>
              </a:b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СТБ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" name="TextBox 7"/>
            <p:cNvSpPr/>
            <p:nvPr/>
          </p:nvSpPr>
          <p:spPr>
            <a:xfrm>
              <a:off x="5505480" y="5525640"/>
              <a:ext cx="8460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14896</a:t>
              </a: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ДСТУ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" name="TextBox 8"/>
            <p:cNvSpPr/>
            <p:nvPr/>
          </p:nvSpPr>
          <p:spPr>
            <a:xfrm>
              <a:off x="6794640" y="5525640"/>
              <a:ext cx="8445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4787</a:t>
              </a:r>
              <a:br>
                <a:rPr sz="1600"/>
              </a:b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СТ РК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" name="TextBox 9"/>
            <p:cNvSpPr/>
            <p:nvPr/>
          </p:nvSpPr>
          <p:spPr>
            <a:xfrm>
              <a:off x="7993440" y="4512960"/>
              <a:ext cx="10173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  <a:ea typeface="Arial"/>
                </a:rPr>
                <a:t>7934</a:t>
              </a:r>
              <a:br>
                <a:rPr sz="1600"/>
              </a:br>
              <a:r>
                <a:rPr b="1" lang="ru-RU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ГОСТ Р</a:t>
              </a:r>
              <a:r>
                <a:rPr b="1" lang="ru-RU" sz="1600" spc="-1" strike="noStrike">
                  <a:solidFill>
                    <a:srgbClr val="0070c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89" name="Rectangle 4"/>
          <p:cNvSpPr/>
          <p:nvPr/>
        </p:nvSpPr>
        <p:spPr>
          <a:xfrm>
            <a:off x="326880" y="2359080"/>
            <a:ext cx="3818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Arial"/>
                <a:ea typeface="Arial"/>
              </a:rPr>
              <a:t>Разработка национальных </a:t>
            </a:r>
            <a:br>
              <a:rPr sz="1700"/>
            </a:br>
            <a:r>
              <a:rPr b="1" lang="ru-RU" sz="1700" spc="-1" strike="noStrike">
                <a:solidFill>
                  <a:srgbClr val="0070c0"/>
                </a:solidFill>
                <a:latin typeface="Arial"/>
                <a:ea typeface="Arial"/>
              </a:rPr>
              <a:t>технических регламентов 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68160" y="3000240"/>
          <a:ext cx="3316320" cy="3378240"/>
        </p:xfrm>
        <a:graphic>
          <a:graphicData uri="http://schemas.openxmlformats.org/drawingml/2006/table">
            <a:tbl>
              <a:tblPr/>
              <a:tblGrid>
                <a:gridCol w="1665360"/>
                <a:gridCol w="1650960"/>
              </a:tblGrid>
              <a:tr h="974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рана СН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4320">
                      <a:solidFill>
                        <a:srgbClr val="297fd5"/>
                      </a:solidFill>
                    </a:lnL>
                    <a:lnR>
                      <a:noFill/>
                    </a:lnR>
                    <a:lnT w="4320">
                      <a:solidFill>
                        <a:srgbClr val="297fd5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л-во национальных технических регламент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297fd5"/>
                      </a:solidFill>
                    </a:lnR>
                    <a:lnT w="4320">
                      <a:solidFill>
                        <a:srgbClr val="297fd5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76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Арм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3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Беларус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Казах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Кыргыз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Молд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Таджики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Узбеки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AC12-36EC-4E60-A936-98FF01A9027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14320" y="5414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Технические барьеры в торговле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 Содружестве Независимых Государст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498680" y="1415880"/>
            <a:ext cx="673236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СОЗДАНА ДОГОВОРНО-ПРАВОВАЯ БАЗА,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в том числе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условия признания результатов оценки (подтверждения) соответств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применение межгосударственных стандартов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Rectangle 52"/>
          <p:cNvSpPr/>
          <p:nvPr/>
        </p:nvSpPr>
        <p:spPr>
          <a:xfrm>
            <a:off x="3867480" y="2181240"/>
            <a:ext cx="1726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Arial"/>
                <a:ea typeface="Arial"/>
              </a:rPr>
              <a:t>В ТО ЖЕ ВРЕМ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427040" y="4210200"/>
            <a:ext cx="679788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263520"/>
                <a:tab algn="l" pos="3556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дальнейшая модернизация экономик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263520"/>
                <a:tab algn="l" pos="3556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овышение конкурентоспособности продукции и услуг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263520"/>
                <a:tab algn="l" pos="3556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внедрение инновационных технологий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263520"/>
                <a:tab algn="l" pos="3556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эффективное использование ресурсов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263520"/>
                <a:tab algn="l" pos="35568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наращивание объемов взаимной торговл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554040" y="1751040"/>
            <a:ext cx="8074080" cy="580680"/>
          </a:xfrm>
          <a:prstGeom prst="rect">
            <a:avLst/>
          </a:prstGeom>
          <a:solidFill>
            <a:srgbClr val="d4e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нацелен на активизацию торгово-экономического сотрудничества на прозрачной и понятной для всех стран основ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Text Box 40"/>
          <p:cNvSpPr/>
          <p:nvPr/>
        </p:nvSpPr>
        <p:spPr>
          <a:xfrm>
            <a:off x="351000" y="558720"/>
            <a:ext cx="83358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ДОГОВОР О ЗОНЕ СВОБОДНОЙ ТОРГОВЛ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A1D2-9C2F-4D1E-9BBF-FB867DBB2F7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6053040" y="1216080"/>
            <a:ext cx="2575080" cy="335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от 18 октября 2011 год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0" name="Picture 13" descr="Армения"/>
          <p:cNvPicPr/>
          <p:nvPr/>
        </p:nvPicPr>
        <p:blipFill>
          <a:blip r:embed="rId1"/>
          <a:stretch/>
        </p:blipFill>
        <p:spPr>
          <a:xfrm>
            <a:off x="2147484240" y="-26007840"/>
            <a:ext cx="1285920" cy="64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Армения"/>
          <p:cNvPicPr/>
          <p:nvPr/>
        </p:nvPicPr>
        <p:blipFill>
          <a:blip r:embed="rId2"/>
          <a:stretch/>
        </p:blipFill>
        <p:spPr>
          <a:xfrm>
            <a:off x="2147484240" y="-25855560"/>
            <a:ext cx="1285920" cy="64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Армения"/>
          <p:cNvPicPr/>
          <p:nvPr/>
        </p:nvPicPr>
        <p:blipFill>
          <a:blip r:embed="rId3"/>
          <a:stretch/>
        </p:blipFill>
        <p:spPr>
          <a:xfrm>
            <a:off x="2147484240" y="-25855560"/>
            <a:ext cx="1285920" cy="6476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447840" y="2500200"/>
            <a:ext cx="8404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Статья 11</a:t>
            </a:r>
            <a:br>
              <a:rPr sz="1400"/>
            </a:br>
            <a:r>
              <a:rPr b="1" i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Технические барьеры в торговл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Стороны во взаимной торговле применяют технические меры, включая технические регламенты, 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стандарты и процедуры оценки соответствия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, руководствуясь </a:t>
            </a:r>
            <a:r>
              <a:rPr b="1" i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правилами и принципами Соглашения ВТО 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  <a:ea typeface="Arial"/>
              </a:rPr>
              <a:t>о технических барьерах в торговле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0"/>
          <p:cNvSpPr/>
          <p:nvPr/>
        </p:nvSpPr>
        <p:spPr>
          <a:xfrm>
            <a:off x="-407880" y="866880"/>
            <a:ext cx="99392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НИЖЕНИЕ ТЕХНИЧЕСКИХ БАРЬЕРОВ В ТОРГОВЛ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 РАМКАХ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703440" y="3731040"/>
            <a:ext cx="4659120" cy="131364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Соглашение о межгосударственных технических регламентах государств-участников СНГ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117880" y="5049720"/>
            <a:ext cx="3498840" cy="67464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Предусматривает разработку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технических регламентов СНГ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698400" y="2078640"/>
            <a:ext cx="4572000" cy="70380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Договор о зоне свободной торговл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117880" y="2784600"/>
            <a:ext cx="3498840" cy="438120"/>
          </a:xfrm>
          <a:prstGeom prst="rect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  <a:ea typeface="Arial"/>
              </a:rPr>
              <a:t>Имеет рамочный характер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авая фигурная скобка 7"/>
          <p:cNvSpPr/>
          <p:nvPr/>
        </p:nvSpPr>
        <p:spPr>
          <a:xfrm>
            <a:off x="6146640" y="1992240"/>
            <a:ext cx="223920" cy="4173480"/>
          </a:xfrm>
          <a:custGeom>
            <a:avLst/>
            <a:gdLst>
              <a:gd name="textAreaLeft" fmla="*/ 0 w 223920"/>
              <a:gd name="textAreaRight" fmla="*/ 80640 w 223920"/>
              <a:gd name="textAreaTop" fmla="*/ 33840 h 4173480"/>
              <a:gd name="textAreaBottom" fmla="*/ 4139640 h 417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3"/>
                  <a:pt x="10800" y="565"/>
                </a:cubicBezTo>
                <a:lnTo>
                  <a:pt x="10800" y="10235"/>
                </a:lnTo>
                <a:cubicBezTo>
                  <a:pt x="10800" y="10518"/>
                  <a:pt x="16200" y="10800"/>
                  <a:pt x="21600" y="10800"/>
                </a:cubicBezTo>
                <a:cubicBezTo>
                  <a:pt x="16200" y="10800"/>
                  <a:pt x="10800" y="11083"/>
                  <a:pt x="10800" y="11365"/>
                </a:cubicBezTo>
                <a:lnTo>
                  <a:pt x="10800" y="21035"/>
                </a:lnTo>
                <a:cubicBezTo>
                  <a:pt x="10800" y="2131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6451560" y="3189240"/>
            <a:ext cx="221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не имеют механизма практической реализаци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575080" y="5702400"/>
            <a:ext cx="329400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Длительный процесс, требующий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a6b"/>
                </a:solidFill>
                <a:latin typeface="Arial"/>
                <a:ea typeface="Arial"/>
              </a:rPr>
              <a:t>согласования всеми странами СНГ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682C-1BC2-47B5-9B65-CC95CC3E498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7"/>
          <p:cNvSpPr/>
          <p:nvPr/>
        </p:nvSpPr>
        <p:spPr>
          <a:xfrm>
            <a:off x="3279600" y="2681280"/>
            <a:ext cx="2590920" cy="1940040"/>
          </a:xfrm>
          <a:prstGeom prst="ellipse">
            <a:avLst/>
          </a:prstGeom>
          <a:solidFill>
            <a:srgbClr val="d3dfee"/>
          </a:solidFill>
          <a:ln w="19080">
            <a:solidFill>
              <a:srgbClr val="003a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  <a:ea typeface="Arial"/>
              </a:rPr>
              <a:t>ГОСТ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502240" y="1822320"/>
            <a:ext cx="34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Установление 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максимально высоких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 требований с учетом международных и европейских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745240" y="3067200"/>
            <a:ext cx="32479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Обеспечение соответствия продукции перспективным требованиям, конкурентоспособности продукци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182520" y="1822320"/>
            <a:ext cx="397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Установление 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оптимальных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  <a:ea typeface="Arial"/>
              </a:rPr>
              <a:t> требований для обеспечения необходимого уровня безопасности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187960" y="4772160"/>
            <a:ext cx="38052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Модернизация и реконструирование промышленности, </a:t>
            </a:r>
            <a:br>
              <a:rPr sz="1500"/>
            </a:b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внедрение инноваций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71280" y="3243240"/>
            <a:ext cx="3284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Исключение излишнего регулирования и снижение нагрузки на бизнес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46240" y="4727520"/>
            <a:ext cx="3498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66"/>
                </a:solidFill>
                <a:latin typeface="Arial"/>
                <a:ea typeface="Arial"/>
              </a:rPr>
              <a:t>Оптимальные правила допуска продукции на единую таможенную территорию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1247760" y="5865840"/>
            <a:ext cx="69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Обеспечение безопасности и создание конкурентоспособной продукции, выпускаемой по единым документам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AutoShape 21"/>
          <p:cNvSpPr/>
          <p:nvPr/>
        </p:nvSpPr>
        <p:spPr>
          <a:xfrm>
            <a:off x="1608120" y="2752560"/>
            <a:ext cx="349200" cy="330480"/>
          </a:xfrm>
          <a:prstGeom prst="downArrow">
            <a:avLst>
              <a:gd name="adj1" fmla="val 56361"/>
              <a:gd name="adj2" fmla="val 72222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AutoShape 21"/>
          <p:cNvSpPr/>
          <p:nvPr/>
        </p:nvSpPr>
        <p:spPr>
          <a:xfrm>
            <a:off x="1820880" y="4348080"/>
            <a:ext cx="349200" cy="330120"/>
          </a:xfrm>
          <a:prstGeom prst="downArrow">
            <a:avLst>
              <a:gd name="adj1" fmla="val 56361"/>
              <a:gd name="adj2" fmla="val 72222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AutoShape 21"/>
          <p:cNvSpPr/>
          <p:nvPr/>
        </p:nvSpPr>
        <p:spPr>
          <a:xfrm>
            <a:off x="7012080" y="2681280"/>
            <a:ext cx="349200" cy="330120"/>
          </a:xfrm>
          <a:prstGeom prst="downArrow">
            <a:avLst>
              <a:gd name="adj1" fmla="val 56361"/>
              <a:gd name="adj2" fmla="val 72222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AutoShape 21"/>
          <p:cNvSpPr/>
          <p:nvPr/>
        </p:nvSpPr>
        <p:spPr>
          <a:xfrm>
            <a:off x="6721560" y="4437000"/>
            <a:ext cx="349200" cy="330120"/>
          </a:xfrm>
          <a:prstGeom prst="downArrow">
            <a:avLst>
              <a:gd name="adj1" fmla="val 56361"/>
              <a:gd name="adj2" fmla="val 72222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1927080" y="5576760"/>
            <a:ext cx="349560" cy="330480"/>
          </a:xfrm>
          <a:prstGeom prst="downArrow">
            <a:avLst>
              <a:gd name="adj1" fmla="val 56361"/>
              <a:gd name="adj2" fmla="val 72222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AutoShape 21"/>
          <p:cNvSpPr/>
          <p:nvPr/>
        </p:nvSpPr>
        <p:spPr>
          <a:xfrm>
            <a:off x="6330960" y="5576760"/>
            <a:ext cx="349200" cy="330480"/>
          </a:xfrm>
          <a:prstGeom prst="downArrow">
            <a:avLst>
              <a:gd name="adj1" fmla="val 56361"/>
              <a:gd name="adj2" fmla="val 72222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AutoShape 24"/>
          <p:cNvSpPr/>
          <p:nvPr/>
        </p:nvSpPr>
        <p:spPr>
          <a:xfrm>
            <a:off x="4255920" y="2011320"/>
            <a:ext cx="487440" cy="447840"/>
          </a:xfrm>
          <a:prstGeom prst="leftRightArrow">
            <a:avLst>
              <a:gd name="adj1" fmla="val 45389"/>
              <a:gd name="adj2" fmla="val 37581"/>
            </a:avLst>
          </a:prstGeom>
          <a:solidFill>
            <a:srgbClr val="d3df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8473320" y="291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F1B1-8E8A-46B8-A1A2-2D98B4AB53C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-388800" y="808200"/>
            <a:ext cx="99392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НИЖЕНИЕ ТЕХНИЧЕСКИХ БАРЬЕРОВ В ТОРГОВЛ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 РАМКАХ СН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1:54:20Z</dcterms:created>
  <dc:creator>client906_5</dc:creator>
  <dc:description/>
  <dc:language>en-US</dc:language>
  <cp:lastModifiedBy>client807_1</cp:lastModifiedBy>
  <cp:lastPrinted>2014-09-24T11:03:08Z</cp:lastPrinted>
  <dcterms:modified xsi:type="dcterms:W3CDTF">2014-09-24T11:11:34Z</dcterms:modified>
  <cp:revision>669</cp:revision>
  <dc:subject/>
  <dc:title>Таможенный союз</dc:title>
</cp:coreProperties>
</file>