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0348-4A1C-4889-85F7-DE67E2A25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0775-B10D-44E1-B3D6-F52843E198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148A-A782-4995-B444-EDB91F1212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C36-51D9-4827-9830-9662336D51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D6BE-EE2E-484F-BEDB-BDFB3C68C1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68BF-E79A-4E08-9E2E-8302B48271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E5C2-5669-4E6F-BC1B-D39EA2FAE6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076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Picture 15" descr="Рисунок4"/>
          <p:cNvPicPr/>
          <p:nvPr/>
        </p:nvPicPr>
        <p:blipFill>
          <a:blip r:embed="rId1"/>
          <a:stretch/>
        </p:blipFill>
        <p:spPr>
          <a:xfrm>
            <a:off x="3876840" y="303120"/>
            <a:ext cx="12571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7"/>
          <p:cNvSpPr/>
          <p:nvPr/>
        </p:nvSpPr>
        <p:spPr>
          <a:xfrm>
            <a:off x="3452760" y="3784680"/>
            <a:ext cx="2111400" cy="74916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Услов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805120" y="1703520"/>
            <a:ext cx="35496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гармонизированные принципы надзора за безопасностью взаимопоставляемой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494320" y="5064120"/>
            <a:ext cx="3357720" cy="106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или гармонизированных процедур оценки (подтверждения)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290520" y="3281400"/>
            <a:ext cx="238752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именение единых межгосударственных стандартов (ГОСТ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330960" y="2730600"/>
            <a:ext cx="2662200" cy="82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согласованные принципы обеспечения единства измерений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AutoShape 21"/>
          <p:cNvSpPr/>
          <p:nvPr/>
        </p:nvSpPr>
        <p:spPr>
          <a:xfrm rot="6275400">
            <a:off x="3007440" y="323100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11FA-51EF-4FB8-BF1B-64113E67E3E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Text Box 40"/>
          <p:cNvSpPr/>
          <p:nvPr/>
        </p:nvSpPr>
        <p:spPr>
          <a:xfrm>
            <a:off x="-388800" y="80820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ТРАН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" name="Rectangle 7"/>
          <p:cNvGrpSpPr/>
          <p:nvPr/>
        </p:nvGrpSpPr>
        <p:grpSpPr>
          <a:xfrm>
            <a:off x="231840" y="5278320"/>
            <a:ext cx="3925800" cy="1025640"/>
            <a:chOff x="231840" y="5278320"/>
            <a:chExt cx="3925800" cy="1025640"/>
          </a:xfrm>
        </p:grpSpPr>
        <p:pic>
          <p:nvPicPr>
            <p:cNvPr id="63" name="Rectangle 7" descr=""/>
            <p:cNvPicPr/>
            <p:nvPr/>
          </p:nvPicPr>
          <p:blipFill>
            <a:blip r:embed="rId1"/>
            <a:stretch/>
          </p:blipFill>
          <p:spPr>
            <a:xfrm>
              <a:off x="231840" y="5278320"/>
              <a:ext cx="392580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90520" y="5326200"/>
              <a:ext cx="380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признание результатов работ по аккредитации органов по оценке (подтверждению) соответств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5" name="AutoShape 21"/>
          <p:cNvSpPr/>
          <p:nvPr/>
        </p:nvSpPr>
        <p:spPr>
          <a:xfrm rot="13880400">
            <a:off x="5838480" y="3099960"/>
            <a:ext cx="212760" cy="806400"/>
          </a:xfrm>
          <a:prstGeom prst="downArrow">
            <a:avLst>
              <a:gd name="adj1" fmla="val 56361"/>
              <a:gd name="adj2" fmla="val 72347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AutoShape 21"/>
          <p:cNvSpPr/>
          <p:nvPr/>
        </p:nvSpPr>
        <p:spPr>
          <a:xfrm rot="18025800">
            <a:off x="5589000" y="438336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AutoShape 21"/>
          <p:cNvSpPr/>
          <p:nvPr/>
        </p:nvSpPr>
        <p:spPr>
          <a:xfrm rot="10800000">
            <a:off x="4366800" y="2730240"/>
            <a:ext cx="212760" cy="804600"/>
          </a:xfrm>
          <a:prstGeom prst="downArrow">
            <a:avLst>
              <a:gd name="adj1" fmla="val 56361"/>
              <a:gd name="adj2" fmla="val 72185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AutoShape 21"/>
          <p:cNvSpPr/>
          <p:nvPr/>
        </p:nvSpPr>
        <p:spPr>
          <a:xfrm rot="2996400">
            <a:off x="3423240" y="4472640"/>
            <a:ext cx="212760" cy="804960"/>
          </a:xfrm>
          <a:prstGeom prst="downArrow">
            <a:avLst>
              <a:gd name="adj1" fmla="val 56361"/>
              <a:gd name="adj2" fmla="val 72218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442800" y="4286160"/>
            <a:ext cx="8258400" cy="612360"/>
          </a:xfrm>
          <a:prstGeom prst="rect">
            <a:avLst/>
          </a:prstGeom>
          <a:solidFill>
            <a:srgbClr val="e7ebf5"/>
          </a:solidFill>
          <a:ln w="1908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в странах СНГ ведется информационный реестр аккредитованных в Национальной системе аккредитации органов по оценке соответстви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Rectangle 25"/>
          <p:cNvSpPr/>
          <p:nvPr/>
        </p:nvSpPr>
        <p:spPr>
          <a:xfrm>
            <a:off x="463680" y="3090960"/>
            <a:ext cx="8258040" cy="871560"/>
          </a:xfrm>
          <a:prstGeom prst="rect">
            <a:avLst/>
          </a:prstGeom>
          <a:solidFill>
            <a:srgbClr val="edf0f7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в странах СНГ действуют Национальные системы аккредитации, располагающие правилами и процедурами для осуществления аккредитации в соответствии с требованиями ГОСТ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3680" y="5197320"/>
            <a:ext cx="8258040" cy="1130760"/>
          </a:xfrm>
          <a:prstGeom prst="rect">
            <a:avLst/>
          </a:prstGeom>
          <a:solidFill>
            <a:srgbClr val="dae0e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Национальные органы по аккредитации осуществляют взаимные оценки в целях соблюдения всех иных условий в части аккредитации,  выступающих основой доверия к результатам оценки соответствия, в том числе в рамках Региональной ассоциации по аккредитац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19DE-0931-4DB9-BDD7-480AA4B4834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0" y="808200"/>
            <a:ext cx="9144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Условия признания результатов работ по аккредитации органов по оценке (подтверждению)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63680" y="1820880"/>
            <a:ext cx="8258040" cy="87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4a66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66"/>
                </a:solidFill>
                <a:latin typeface="Arial"/>
                <a:ea typeface="Arial"/>
              </a:rPr>
              <a:t>Национальные органы по аккредитации уполномочены осуществлять аккредитацию органов по оценке соответствия и испытательных лаборатор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727200" y="654120"/>
            <a:ext cx="7772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1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нятие межгосударственных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технических реглам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233280" y="2079720"/>
            <a:ext cx="8759880" cy="40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, имеющего право прямого хождения на территории государств – участников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по оценке соответствия на сайте МГС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рганов по оценке (подтверждению) соответствия (ОС) и испытательных лабораторий (ИЛ) в Национальных системах аккредитации государств – участников СНГ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государственного надзора за безопасностью продукции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D33B-3DEE-4ECE-8D29-1196775D57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33280" y="569880"/>
            <a:ext cx="8759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Формирование Единого перечня продукции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одлежащей обязательной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при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применении ГОСТ на требования и методы испытаний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106200" y="3333600"/>
            <a:ext cx="901404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оценки соответствия на соответствие требованиям Г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на сайте МГ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надзо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BFE8-C019-441B-B87C-9002730BC0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33280" y="1992240"/>
            <a:ext cx="8506080" cy="13543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Единый перечень должен содержать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именование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формы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треб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методы контрол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33280" y="569880"/>
            <a:ext cx="875988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3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Формирование Единого перечня продукции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одлежащей обязательной оценке соответств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(при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Arial"/>
                <a:ea typeface="Arial"/>
              </a:rPr>
              <a:t>применении ГОСТ на требования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106200" y="3103560"/>
            <a:ext cx="901404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оценки соответствия на соответствие требованиям Г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сопоставимости методов испытаний (за счет их валидации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документа по единой форм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едение Единого реестра выданных документов на сайте МГ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единым знаком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бращение продукции без дополнительных требований и процедур оценки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надзор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E883-4E04-4950-9A16-920FEE3A6AF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33280" y="2019240"/>
            <a:ext cx="8759880" cy="10843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Единый перечень должен содержать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именование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формы оценки соответств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означение ГОСТ на требова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4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Взаимное признание национальных сертифика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ответствия на продукцию, производимую в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106200" y="2612880"/>
            <a:ext cx="90140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озможность установления требований к продукции и методов испытаний в национальных документах, признанных на уровне СН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процедуры признания путем сравнительного анализа требований в национальном документе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работ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уполномоченными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органами в соответствии с национ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на соответствие ГОСТ 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SO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EC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17065-2013, ИЛ на соответствие ГОСТ ИСО/МЭК 17025-20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информационного перечня уполномоченных орган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сертификата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продукции в обращение - после проведения процедур признан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10F9-C113-49D7-ACBB-F70B615F564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33280" y="1693800"/>
            <a:ext cx="8759880" cy="84780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</a:t>
            </a:r>
            <a:r>
              <a:rPr b="1" lang="ru-RU" sz="1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не признаются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декларации о соответств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иональные сертификаты соответствия на продукцию из третьи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5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протоколов испытаний продукц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оизводимой в государствах - участни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30320" y="3292560"/>
            <a:ext cx="901368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продукции в обращение - после проведения процедур оценки соответствия (с учетом признания протоколов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законодательств по проведению государственного надзора за безопасностью продук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16DA-2FE6-41D4-A8CF-20534426E2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33280" y="1790640"/>
            <a:ext cx="8359920" cy="15019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  <a:ea typeface="Arial"/>
              </a:rPr>
              <a:t>При этом должны соблюдаться условия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методы испытаний должны быть валидированы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е лаборатории должны быть аккредитованы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 соответствие ГОСТ ИСО/МЭК 17025-200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действия протоколов испытаний должен быть не более 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33400" y="3998880"/>
            <a:ext cx="7759800" cy="6033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6040" indent="-17604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национальные документы вписываются протоколы испытаний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спытательных лабораторий государств – участник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3280" y="569880"/>
            <a:ext cx="8759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еханизм 6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Признание работ по оценке соответствия, основанное</a:t>
            </a:r>
            <a:br>
              <a:rPr sz="2400"/>
            </a:b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на заключении двусторонних соглашений между 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06200" y="2271600"/>
            <a:ext cx="901404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дписание органами по сертификации двусторонних Соглаше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на соответствие ГОСТ 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SO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/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IEC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 17065-2013, ИЛ на соответствие ГОСТ ИСО/МЭК 17025-2009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оведение взаимных оценок и сличительных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изнание протоколов испытаний ИЛ государств – участников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дача национального документа об оценке (подтверждении) соответствия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Маркировка продукции национальным знаком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ыпуск в обращение - после проведения процедур оценки соответстви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ккредитация ОС и ИЛ в Национальных системах аккредитации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существление государственного надзора за безопасностью продукции по национальному законодательств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Aft>
                <a:spcPts val="4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90FD-328C-4662-9128-FCC551A501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33280" y="1712880"/>
            <a:ext cx="8499600" cy="54756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меняется в отношении продукции, производимой на территории СНГ 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ставляемой из третьи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93560" y="2612880"/>
            <a:ext cx="8239320" cy="30348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70000" indent="-174600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ОС должна входить испытательная лаборатор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ПЛАШКОВА</cp:lastModifiedBy>
  <cp:lastPrinted>2014-09-24T11:03:08Z</cp:lastPrinted>
  <dcterms:modified xsi:type="dcterms:W3CDTF">2014-09-28T19:27:46Z</dcterms:modified>
  <cp:revision>712</cp:revision>
  <dc:subject/>
  <dc:title>Таможенный союз</dc:title>
</cp:coreProperties>
</file>